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start.wav" ContentType="audio/x-wav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5.gif" ContentType="image/gif"/>
  <Override PartName="/ppt/media/image4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3.png" ContentType="image/png"/>
  <Override PartName="/ppt/media/image23.gif" ContentType="image/gi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606E-BD4F-4A54-B3F1-D63F6D3602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8A7D-111E-4FE9-9843-C258AC4E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D8BB16-8988-4827-8F32-1B372F17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25072B-2091-4CE9-ACD8-6A15B5D4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044115-CA59-485C-9287-B1B57E3E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42C40C-1FF8-4B86-A291-EEA2703F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3B90E7-BF3C-4772-84F0-1232FD42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89A460-F6DC-47C3-9A49-6BA471B8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7E6466-78D7-4DA6-B8C7-6EE46FEE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3082DB-7BFA-47E6-ADC9-4E393FB8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66DDED-010E-466A-8082-3CEDF0F65B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B025C-F56C-4C69-92DB-021DA8B391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389F0-46AE-487D-AEDF-C94789C0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6B124-AC70-4976-B754-154AB74F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E73C8-B28A-44B1-A6B8-9E67CA4E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68708-AED9-495D-8C86-C6EF25DF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30C0E-1656-4AED-A4E6-49EE362A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2CBDA-D7DC-4CE6-AE9E-79A2D682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9E0E4-A184-447A-A3FB-3F19BAA1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4AD25-C68A-4626-9BAF-B4ECF432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E8951-CD70-4372-A125-3374F8C5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FF6AD-AD04-4B18-B027-4974D3A9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895C0-2189-4C8D-9271-CB6FFAE9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A2C00-E6C1-4B89-9CE7-6763B07D46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CC654-BB42-433E-866A-6C64A7E9DA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A54414-5DFA-46A2-A10B-D09B07F971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800A8C-ABDC-410A-88E1-8F5309B2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73141D-CA96-4F5E-B3EA-11998236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525C0F-C9A0-40ED-A3D4-FC440AB7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45E3A5-E2D4-474F-9DC9-E50D03F0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F94FDE-9781-4388-A838-2DA8D4AC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3F2121-A1E0-493D-9C8D-B906C422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B594E6-3075-41E4-B3CF-B91ED6A0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5A1870-EF33-4A3F-B98D-FC1B0CCF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3CD98-4C19-4BB6-BA85-0E66F36742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AB9406-AF50-45A7-B304-1F1D9852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C5347E-ACFC-4BDD-8824-68119327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EFB191-E737-4594-9DB6-3A28FD72F5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0046E-89EA-430A-BDA2-2383C074A5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9F3F0-2C47-4AB1-8B72-5429DABE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086F1-D1BA-4610-98F4-B0CDED81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0818B-9BCF-4546-89FE-EC7E5441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EA66D5-2AB2-4BFF-8EFB-0006756C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A462C-CD2A-4906-B44B-2D77EE61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947F2-D506-4E62-81C2-7BDFF238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CC55F-513F-48AA-8D83-06268C58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EE460-9BCC-4B64-A550-19AEAC05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A6C4A-E05C-4273-83CC-2AF665BB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6620E-6B40-4D5F-ADDE-A04DDE88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8A3C6-C3B0-4D5A-9D2B-D658690E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288FD-3838-41D1-BBE6-93A0F1BA12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6BE6A-ED11-411E-AACC-3C81D2E9D5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4A7AA-A3DF-4983-94F3-F5421F63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2C9BF-4C5A-4AF6-AE79-1CE64D3B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C4A4E-579F-4B09-866A-E0319E59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B362B-4E63-4471-9C9F-59205B06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EED7C-00F3-4126-9E36-D8820F20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D7804-E7D3-420F-87B1-EE9ECEB6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50D0F-1BA3-40FC-8E3D-DF2644EB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4D072-318B-4A03-990A-417DBEAF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1CE62-D5D5-4AE9-9DB8-25B55BA4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A03BB-5637-48EB-B39E-D855D3D5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428A7-8331-4984-91E3-A5EFD8A9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C8F8B-43E2-4F6B-896B-0AB56F2D04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C24F70-BB83-4D17-9D39-EB50252CAE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670E62-F152-4139-B520-FC600F8F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E290DB-7987-479A-9625-4DAF159D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E85FC-5EDA-4CB4-B8D3-2A1AFC51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ED5FD3-9E47-48EF-98E1-347A46AE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EA4224-3FFD-446C-BA4D-5DC4859B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8EEE26-3BC8-495C-A48F-D4D82EE9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D5E99F-8D51-4C1F-8957-CF86FBDB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B985A1-7E00-4C33-96B4-713D421E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085D8B-FD08-4FF7-9593-8AAE7628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F50102-1436-4E18-A61C-38E9A311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ED69E8-6A92-47A4-A3C6-AB3DEA3E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F8548A-8F6B-47DE-9729-94E5D5AAD4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AEAC40-1D1A-4C03-B654-39A0387DCE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A9766-E5EE-4730-B9F3-714BAEDC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8A1AD1-5F78-4B34-A846-C28B390C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4A1CD1-24C5-428A-9298-2B1DDF8E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541600-0AD3-4479-AFBF-21C43440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054F8E-DA29-44A2-9644-AB4F97E2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FEF787-521A-4581-A5C1-2BAE7A0B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D69BFC-82DA-47D5-A54E-2BF4F6EC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71C6F2-EA02-4FBC-BEFD-6BCF3A62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4C83FB-1221-4FD4-8F95-1982FBC0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9AAFE5-3861-4945-A19D-6114D07E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8B8400-2C3C-492A-983E-785E1D71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8DE2B-69CC-4D88-A714-A4368146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030E54-27B3-4BC1-B4CF-B9008605A8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2A66F-267A-4DF6-B1E4-8CBF59B380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6193C-AA23-4A81-9869-D5363EF9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63FB6-B94A-4816-8667-63F38FA7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C1D90-7B98-4422-BC19-C1F8513D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DC59D-9F36-4333-B511-E9365FC8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436E9-2F39-44CE-8557-59C454A7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E6BAC-7896-4720-A2C4-EE389654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87C1D-F65C-4D5B-8CA3-697BC725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F4CC7-F850-4870-BD06-A22DAE6B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564B8-FC5B-4F30-8285-A9406132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F5D6B-4309-49CC-9437-D319DB9F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701BA-D8B7-495A-A40B-54D0A740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D55E1-3216-46C4-9C43-720EA1279B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9EC8A2-D226-4EED-8717-ED596AF478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4303C3-36E3-460E-BF9C-EBB9BBB0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8A10FA-DC38-4FA6-90A4-5FF961BB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AF11CE-DE7D-40D6-9F63-458B546E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B1873C-5DEB-4470-9D89-F3EC1313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CDD243-E976-4D2F-85F9-5A7938EA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834BFD-D33F-4F0D-9EC3-B31B8C08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FD527-2452-466A-9748-4C4AD1EC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5930B-07F8-4873-9634-23FE8471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65FB56-9C96-4C73-BD1F-09675E87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9DF4E7-A5E0-4D99-A38A-9D72CE22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1B53F3-6545-4353-9BDE-926DD4E0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77D804-EE41-4B43-B5EE-191C0815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13434C-E904-42B1-AEE0-99BA013BF1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1D77D1-9C89-4799-BABC-8FFBEE49FC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586B13-EB2C-467F-B72E-C55A9D07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161BA3-1A7D-4F34-AB49-5E23871D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7FE1DD-6C7F-4665-813A-5405E2C8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A7B839-4B69-4264-A01A-F4CBAAFA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9924F-F864-40C3-8728-39D2CA9F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7490B3-3E6D-476C-AEAF-39045738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0D24B0-98CB-49DC-B6F3-BFCA52F3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27A8D1-719A-4E83-949A-814C444F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0B60FC-3AF9-40E7-B998-F5ABB262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3B9E9E-9801-43BF-B23B-DA61EDE5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678685-5521-405C-AFE5-3450AD44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D8FEC9-1D00-460C-B147-69571E4428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2C02A-6C6F-48AA-B322-8A0B082E71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D608F-95F1-41B6-A35C-7C1EFB71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0FE55-E603-45FB-9BC2-5341977B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98DB4-53AB-4A57-AB88-69C08B36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B8FF7-CA94-498B-8FA7-F974C0AD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3030E-C664-48A7-86A5-21C77895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01ACD-2B0F-41EE-8604-01415637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336F5-1B5E-48D6-927C-8268BE46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F0FAB-3A10-41D3-A4FF-770A0DDB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FAFCA-800F-46FA-8AA1-F8B0EFE7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FE1D8-DF65-449C-85A4-DF348E96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E851F-72DF-42C6-857D-65A334F2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15124-D53F-4792-A736-E64588EFB7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67EAD9-B785-42CE-A66D-342FAEC60A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F6AAC-8DA0-4780-AB71-5E022909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DF52D1-315A-42AC-A5F0-37DBAEA9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10A987-95E8-4EA7-821A-364252DD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2AE045-6129-4C96-86FE-73027BBB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4F935A-1760-4728-B230-ABB06491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10F6F8-6A2C-47B3-A3B8-6E5956CD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173C5E-679E-46A7-89BD-131630F0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61C1E2-B814-4105-8FB5-7FC50CC6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9C1689-5D99-48F1-97DB-56573F3A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4738D8-CEAF-4C8B-B5BE-2B70BF6C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9F3F3A-42C3-43F6-9D1C-3DC0D874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1C4EE-B99E-4615-86A2-84DE843496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3755E8-26D8-4978-AD06-229BBD8A76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FD68B7F-E6D2-4015-BA35-25AB213886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6EBAE4E-F5F4-498A-99BF-6D290B59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5E358F-816A-4466-864D-134A1E0B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8E4C56F-83E8-46D5-8062-B050FDF8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01A2135-603D-471F-A7A9-84A2030D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C1CDA7E-88D5-42DC-B752-ED5427E9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DB98D48-A61E-44CB-9553-5FFD3B0E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63E69F2-5462-4911-915A-CC98EB98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88D932-52B7-48DF-B857-39DB8350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145183-4438-4B0A-AF07-ABDBEE96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F875C55-1D57-4BB0-AF34-0B28BFC2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03CD0E-7CF1-4BD8-B222-D884C269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A4D28D-D6E0-408E-82C8-BE09FA4187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CF2E0-42BA-4C95-B51B-1928623F30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12F5E-9261-424E-91C5-89E3FE23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98219C-FAED-443F-95DF-741DC93A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DD042-C4AE-4A87-B893-BFF891FC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C7345-6FCE-4C07-9784-F8EF45EE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A33443-987F-46AA-B9AB-2C30EC65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1AFC6C-6D48-46A5-B1FA-B8436A09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8B733A-24DC-4A53-B774-E59AC434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E1ED0D-3CF4-4197-A521-85BB6DC6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3D0024-A3E4-439E-9C1D-676A606D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F89F8-F6A7-47EA-B2AD-09C954AB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E07B2C-DCA9-4EF9-B8E1-B3FEE5F8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557CC-367E-4CDB-9131-4C1515AE5F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3482C7-7C0E-4784-8245-DEC036E9B1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9414C3-4576-4CE7-9E58-3DA63ABA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FCDA03-97A4-46AA-B8EC-D8D3997E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C393B7-4623-434D-A17D-15D0A561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BBBF1EA-612A-4ABD-BADB-1D9306DE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049D62-E54A-4F4B-BF1B-DD7D0D1C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C716ED-8E5B-4EA5-B4DD-0F1CC6BA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CC4A0A-FA43-4814-9CE0-8A450688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648FD4-F2D9-4CD6-970A-0E088F0B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AEF5E3-FB61-49BA-97B6-C63A3DCF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623D03-FF35-4956-AA9F-E0FD2E1F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07BFAE-4205-463C-99A7-72384E32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E2BFB8-4660-437C-8FCF-B016F3F45A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D56AE69-0F16-4659-9CFC-5EA606624F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7D847CD-F143-4AFB-9559-4C7E9CC0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9321E2D-9BE3-499B-B7F1-14EE0E48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066DC-97C6-4E3E-B67F-9136E795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603943C-DCB8-489F-8DDA-9B10D3C3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2F5D7A6-DD12-4221-98C8-EC542DFC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282A09B-038B-405D-89A2-0A0AB3E7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1ECC454-D882-4383-84E5-56AA72E6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2A4F721-C4D0-409C-ABFD-8140B022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89BA326-2F4A-4CA1-90B5-ADEC43FA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890B318-AF54-442B-8848-F50D9024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E2238FC-5152-4A64-B5F2-EB0714DD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4BCC699-7625-448E-8C23-C85A284AD4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7B40E-C363-45CB-B4E4-13FC78760E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486675-FB83-4A2A-953F-9C1FADA7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F95DCA-8036-4565-8902-7597D0E0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A68B49-BF1C-4C4B-BFD3-7E6FA63C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73B5B7-4429-4AA4-AD0A-9B77F08C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85064-BAA2-47BF-B3A1-BF6531E5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CAE343-C275-40E1-AA33-223ACEA4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7F7B45-71BF-4DA9-81FD-E9626D60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57CC0-CFAE-4620-9020-3E631A60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C21B0-1763-48FD-83FB-1D683948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AC4AB8-108C-4FAB-8158-998FBC79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6B097A-EF3E-4A0C-A5DD-93F653F4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2ED07-A803-4E24-9231-0D8D25CC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64F53B-9E84-4BDC-9E4F-F0B2F788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C2B70A-F859-4CA1-9F1B-3DA1CE4CA2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D02058-34CB-47F7-87ED-99C246E4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83072-E943-467D-83E1-AC17401E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7DE6CF-3EBE-4230-BA22-ADD32FEF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F4E5B1-6093-46EC-B709-16CF91EA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CA4B83-BD02-43C7-A42E-B3F13B3E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699605-2DD2-4D45-ADC2-E761FF99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559A67-F3EF-4548-B0D4-B3E1834A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93920D-277A-4ACF-BC90-B3C791B8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BCAE22-E6F4-4CB2-A137-9EFA82FA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956443-A8DD-4C42-B690-02D3DE3A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4E9D4A-240C-4847-B02D-97A7F0F0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9E426-032F-458C-A3B6-B418F1FC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5CE27-FB51-441C-92DE-BAE67833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DADF29-006E-4462-9D22-13B994EF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F051F5-4E09-4C86-A931-FBFCF09C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75FDF9-D516-403D-9062-D6939567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EBB23-E5AA-46A8-97AE-68EFB44B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C5D650-F0C8-4BEF-8B5E-143F05D6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4F09FE-5006-422B-BACB-3403F452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4F7F8A-3A9A-4599-A836-629A3DEC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3BE6CC-EF42-4D14-BDD2-82E6F818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173223-564E-4469-8E7D-1F2F0FDD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27DFAE-691E-4B3D-B04E-57B59156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0248B2-7463-4BEE-B3FE-B81AF1D6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3134F-D5A9-4AF5-89F2-7184C4A5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D5F13D-C4A0-41B6-98D2-85EDAA39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4A4296-D59B-4F90-B3E3-D6170701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FE7507-FD14-43DA-826B-5E24ACC4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2CA989-9DE7-4704-88F7-CFF5FCCF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B20EB1-ECA7-43E5-BB6F-6C2D7968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60C43E-9CD9-4AF0-BE67-16A92B1E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EDD813-31FC-45B3-B022-B1A7DCF0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17745D-FA1C-4158-A21F-45167D73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23DE26-F15C-482B-9B11-23553B8B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5E3D1D-7D29-4DE6-A35A-5ABB6B67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5827A8-74AC-4190-AD8E-2FCF8268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BEAF33-2FFB-4628-8941-5C9F3E3A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F60A7F-A65D-4CC1-BF6B-FCA4E198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F4693A-A44B-4533-BD7E-063EB007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A5D4C7-7E30-4496-898B-F3298810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50962F-54D1-4D2E-B4EB-35002382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3ADEF0-02C1-4EA6-9753-97D14F72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9F6188-CA97-4452-934B-F2E8E1CD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81C07F-2956-4073-9A9B-318D7B06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A5E750-7D5D-4FBE-A933-2B988148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EF54FE-BD40-4685-BD6D-5ACB7308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597558-1254-4170-9B25-CCEE8D39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AEFA5F-0D56-4229-8255-9A404B9D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A0BA55-1BE8-42D7-85AD-4B383B31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C01CEC-167A-4E44-9946-31B943A2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C2FBE2-DFF7-4CD3-A9B6-48539504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8078A0-2092-45D2-A009-0C3DAD52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A275DF-6118-4D53-A17A-EF46B8D2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E19443-54D5-44E4-B4C5-D625D5C5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4AB616-8A7A-476D-AE29-8AFF2746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A0DFDF-D5BB-4CDC-8786-CC77211D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8D721B-7835-4BE5-96F4-697EDE6D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4D53B9-D9DA-4ACF-A733-E9304BC5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39495F-7D4D-4DDB-9ABB-D0D50C62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A4B471-FC15-41C2-8AF4-887252AE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F3C342-BB2A-49DD-A5AF-B763B233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5D2C27-0448-4F8D-A27E-2A84A2AB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7C0BA8-ED21-4840-880D-82917B55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806566-706D-44C2-81A8-A9057BFA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2512CE-2C61-4FAD-8026-34984737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8ACA69-3875-4C5C-9DD0-124EE828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E907E5-3FE8-4DA8-9FB3-D8CCF919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62641B-DBF0-440A-832B-180DC0C2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4FA54D-67AD-4EEF-9300-61B9BB47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A81E55-5A3D-44AE-BB59-22CAF004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A677B6-5D89-4E56-8406-D90CA5A3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380931-1929-4BB5-B047-C5AE5441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12559E-6FBD-497E-B75B-B4984FAC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C6AC1B-1056-4569-80BF-7D4AD3BF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2A90E6-342D-4379-B736-D624C6E1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DF25B-2103-49ED-A7DD-2182A9B8FC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4E6BC3-903B-4738-81A6-9535201E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92B006-94D5-4B78-988F-CE7B80DB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3D603E-39F2-462B-9DF3-10D67C22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BB6FE1-9F98-4E62-97F2-4D020587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0D2A26-3165-4D74-A176-A1C9B44D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3CBCA3-FC96-4CD1-8FAB-F48E31D8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51B656-1B4B-4E48-87DD-14DC7EA7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B4B302-CD55-4AF7-8E3B-88573F7B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2FD9EC-0EE0-4636-92A6-14E7F3CC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C6A079-9626-4F70-8868-7424818A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8935B-FCE1-447E-BD41-2AD3F84C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5C3A9B-7969-491F-8647-076F9854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98C81D-A89E-45BB-AA10-0135C586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1EB3CF-9F1D-4656-AC6F-E8C4A86B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9DCCD9-9939-4DDE-8EF8-82F59ED1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E60AF5-CB7E-49EC-BBB1-5A59B880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4AA9A6-1684-401D-9821-C920FC4F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070526-A51E-4726-8571-F4856500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7D73DC-67E0-4307-B5CB-B3FFEB4A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BB80EB-DA02-498A-B400-954208D2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BCF955-33BA-4E5A-9BF3-40DEA6C2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2B35B-3772-4049-A695-734E3C6B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8FA585-B8BC-4CAC-A870-4936BCFD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952940-B390-45B3-ADD5-F17F0549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B9ACB5-7840-4D6D-AC82-E7317F83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859AF8-C63A-417D-AC2E-3B837145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90E6A5-A3E8-477F-A49E-BEC77485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B2AE89-7603-4657-B007-2503F118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1C5E58-7033-40CE-A551-0294B251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3E3D7B-4E60-40BA-B6C0-035F8A1A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012C67-C78C-4B0F-AF66-605B27A1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EA264D-4AFC-4A45-9E7D-0EA69E13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6A49-151E-4C56-9136-0B5D200E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39A32-CB62-4345-B9DB-94269BC9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08F8CE-0D25-452C-AA9C-A3E2F677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782DB1-2296-47DB-ACB1-738E98D5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F6AD40-8622-47A1-A97A-12FE543F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D7A8D4-8C02-4BD1-B675-03332423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A3E0BF-ADA9-4ABB-9661-B0B4C43A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F100AE-0092-4175-9A35-72440AAA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C9BB8C-6C97-4950-A39D-FA83A5F7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CC5C06-0D5E-4DA3-8D11-A7E872AD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BF1D19-466A-4C31-A6C3-05DA86CA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CCCC3F-5A29-4CBA-80F6-66B993C7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56358-FC11-44CB-BE43-4C39AAAE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B887FB-8E9C-47B1-8462-E8B70376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40EA39-D3FD-4AC0-A899-86B5379A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B51D4F-7224-48EB-B13D-0A9DFD06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34CDD0-467F-4782-94D4-2C138ADA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8D80FF-376C-4A5C-BB27-41EDF91F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553E87-F6E1-4414-A4F6-1E01E0D5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3BEB7B-1BE7-422A-AAE4-9F6815D7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1C346A-A433-4B96-9911-AA53FF11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F752D3-C060-413F-9617-FEE6594F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7D2CEB-A3B0-4490-BC0B-51436A16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B6047-8A0A-4882-905B-0356163A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8C11F2-EF5E-41E5-A76B-7DD583BB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11E054-D7C3-47FD-B967-24C26FAF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260D93-56E8-4401-9F5C-379A4CBE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835A0E-BADA-40F8-9B00-683BB25D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3FCBAE-5BEF-4495-900D-2F6DE84E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C548FF-FE6D-4A04-BB60-D5C65B05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FA7860-C58E-42A4-94DD-50CFDCA0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404610-F989-421C-8639-E20438A8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0EBBEA-B201-4DB5-B018-C280409A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152BE5-FBCE-4496-A38A-4BAE793D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C4B4E-5F8A-47B6-B2E9-A838F9ED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BBF6AD-F07F-498D-824E-BAF5ED59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6501F9-68D6-4605-A6A1-359EB7D5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E85B1A-4A68-4534-AC99-9C41AC51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E9F0F-271C-4C32-8AE9-AF12CE0F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95733-A0E0-41D3-B014-2160214C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419F6-D2D9-4B47-9D29-F0B759B1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879EF-58CD-412F-AAEB-2660D67B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26DF-2C55-45BD-A769-BF11132110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0F871B-8C1A-4007-9F4A-2BB7DDEC51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F042-9614-4A2E-BF29-2A8CFF15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8310CD-4A89-4019-B0EE-FB770B2E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26CDA-EABB-434B-B135-7952F19F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BC2A61-2992-4E24-B9B5-33FBC867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C4DA20-9FB1-45A1-8556-888F3CED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F053A-7E22-442F-8C09-62741FE0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6090E9-A119-4717-9572-6306C21D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31E347-BD86-4761-96F6-58756268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DB3910-0A21-4B89-BAEF-7F5C92C0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5B2EFE-36E8-449C-BC98-A43F56CB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E1778B-3792-4AD7-8F6E-99BE1A58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606A-527C-41A1-A046-E62E858C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B7477-B8DD-46F0-B97A-6250AF88A9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165BC4-46B9-477C-9078-8F19AB2B5D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031AB5-034C-49FF-BEEF-BA9F6609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060F6C-D4B8-4BCD-8C3C-6FC029B2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DC3FA2-4A10-4479-87D1-B09FDA2E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09E1BF-D55C-4DA1-9A2B-19083453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3A189D-EBA2-4DB0-9004-71AE148A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7A011C-E753-4A1E-8852-AEBCA8A2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1F1B1F-E24B-429C-B3E0-FFDE4254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CFA490-26D6-4EB9-9A7F-8318D88B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5FEB-BCB2-4C70-AE42-09E36736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2A47A5-09CA-4D56-B8AA-3D5D2456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262A47-01BA-4F90-93F8-DB587B26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553F85-98A3-43F6-A176-31F8784860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64F4B-1F9E-4929-AA41-B4E4D3B32F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C6B4E-E6BB-4F33-BFD7-05F239F4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BAF74-6E44-4C26-843D-B25DAEE8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9AF6E-F56D-486C-B3AA-F0FEDF7F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EDED6-EFA1-4487-880B-4EAE2DD2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BCDC8-EA66-43FC-B94A-C01C3586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0FE8A-2FDE-496E-BD51-CE903C16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271DC-05CF-48A8-ABB1-33C32036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9DFB9-D5C1-43C9-908D-836F2EE8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9DC84-6B57-4FFE-8B35-9A295146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13B9F-BD1B-42FE-B9D4-8B9D3416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F8CA4-48FD-450A-BCA4-D339F830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97A78-D3FA-45AD-93F9-D7D28CA4C0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5F062-4E03-4F02-9DB7-15CFC67FAD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3BB845-2304-4857-8E37-B0943197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75FB06-00E7-4E4B-BB13-2BBB9F37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366CF7-56CB-4DB8-925D-3E53D780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99D7D-E70A-4A60-8458-9A40DA1D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8279-90A8-4863-8AB3-C9D2959A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BF5B4-1E34-4CD0-B7F2-DFAB40F2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BB5FF-4FD8-4995-AF1E-606A7707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35808E-41A7-4301-966F-B76BE426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72233-A4B4-470F-9521-32A3F39C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EC1A2-F810-4CF6-9320-C4164278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CE3EF-14A8-41EF-BDC7-6E6DB0FC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17C68-71E0-4D79-B80E-9DDAE2BCF1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63A58B-DABB-48FC-B713-698312B377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95828C-D6B2-4AF6-88B7-BE20B745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F1E1C0-3052-4BFA-936A-F20D346A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E668-865C-4A4A-9EE0-48312A7D185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6A8A-E734-41B9-988C-CD590EA1938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1446-35F8-4235-89C9-0BF9A99DFAD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C0E4-0710-42B1-988E-0D357B1C147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4979-672F-4E95-AC6B-0052B614D37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D893-4D4E-4EAA-A342-2744AA9CC25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366E-311E-4E32-8BF9-8A8E624780A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A67B-07A9-4F35-A7B6-8305D1F5197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0779-D887-4883-ABF9-BACF52B79FC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E2FE-0144-4DD4-A4F4-841145F2B53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1082-4C4A-4551-B810-0A9D4277468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B347-0D8B-489E-AD68-AD067C430D8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2C98-E6B0-49A2-8F6D-9B73E7D6F2C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3216-0F65-49CF-8299-7B8CB997C2C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8898-64B6-496A-9207-7C2F76218B4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39CA-EF75-4CDD-B9BC-9F78074F53E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837D-6490-43BD-96D8-ACA1EFAA879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C4FA-5EEB-48FD-869A-691B2A50825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1346-432B-4BF2-B17C-2956BC89D68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081C-0554-4E43-834C-5E82695D524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4640-3388-4A22-B5DB-56472C86048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85AD-AF4C-4494-971F-7C2D0CA35FF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2A4E-C4D6-4048-8000-B00B234EEA5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576A-7B51-4D7D-A9A1-13BC46BC2AD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57DD-00B5-4366-B5E6-1F0A137B310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0374-88AE-4A6B-A99F-71321BC0F14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7ADF-78B8-4C16-BD05-D21AC80728B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2038-0937-4616-AEAA-55152CAC24D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ED30-B4C5-48F2-8E02-4843E3BB29E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E1ED-7188-4408-8F09-D84A0104402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528A-0729-4CB6-B0D2-FE82B8DC967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C0C7-5094-4EF2-B21E-25E437165DB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23EE-45B3-44A9-B0FF-5F494C24FD5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3A6C-F002-4447-854E-D26BAD37C64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34D0-9018-4F72-8B5B-B793C39A6DB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45BF-8491-4197-BDB0-72FCE611387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3.gif"/><Relationship Id="rId10" Type="http://schemas.openxmlformats.org/officeDocument/2006/relationships/image" Target="../media/image23.gif"/><Relationship Id="rId11" Type="http://schemas.openxmlformats.org/officeDocument/2006/relationships/image" Target="../media/image23.gif"/><Relationship Id="rId12" Type="http://schemas.openxmlformats.org/officeDocument/2006/relationships/image" Target="../media/image23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9697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9698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54936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法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684360" y="1916280"/>
            <a:ext cx="638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两个未知数的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和倍问题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6" name="AutoShape 16"/>
          <p:cNvSpPr/>
          <p:nvPr/>
        </p:nvSpPr>
        <p:spPr>
          <a:xfrm>
            <a:off x="1116000" y="2060640"/>
            <a:ext cx="2735280" cy="64764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7" name="Text Box 28"/>
          <p:cNvSpPr/>
          <p:nvPr/>
        </p:nvSpPr>
        <p:spPr>
          <a:xfrm>
            <a:off x="1405080" y="282744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上衣和裤子各多少钱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8" name="Text Box 44"/>
          <p:cNvSpPr/>
          <p:nvPr/>
        </p:nvSpPr>
        <p:spPr>
          <a:xfrm>
            <a:off x="828720" y="155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9" name="Rectangle 6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10" name="Object 18" descr=""/>
          <p:cNvPicPr/>
          <p:nvPr/>
        </p:nvPicPr>
        <p:blipFill>
          <a:blip r:embed="rId1"/>
          <a:stretch/>
        </p:blipFill>
        <p:spPr>
          <a:xfrm>
            <a:off x="542880" y="3676680"/>
            <a:ext cx="114480" cy="212760"/>
          </a:xfrm>
          <a:prstGeom prst="rect">
            <a:avLst/>
          </a:prstGeom>
          <a:ln w="0">
            <a:noFill/>
          </a:ln>
        </p:spPr>
      </p:pic>
      <p:grpSp>
        <p:nvGrpSpPr>
          <p:cNvPr id="1811" name="组合 27655"/>
          <p:cNvGrpSpPr/>
          <p:nvPr/>
        </p:nvGrpSpPr>
        <p:grpSpPr>
          <a:xfrm>
            <a:off x="71280" y="3746520"/>
            <a:ext cx="5643720" cy="2471040"/>
            <a:chOff x="71280" y="3746520"/>
            <a:chExt cx="5643720" cy="2471040"/>
          </a:xfrm>
        </p:grpSpPr>
        <p:grpSp>
          <p:nvGrpSpPr>
            <p:cNvPr id="1812" name="组合 27656"/>
            <p:cNvGrpSpPr/>
            <p:nvPr/>
          </p:nvGrpSpPr>
          <p:grpSpPr>
            <a:xfrm>
              <a:off x="71280" y="3746520"/>
              <a:ext cx="5643720" cy="2471040"/>
              <a:chOff x="71280" y="3746520"/>
              <a:chExt cx="5643720" cy="2471040"/>
            </a:xfrm>
          </p:grpSpPr>
          <p:grpSp>
            <p:nvGrpSpPr>
              <p:cNvPr id="1813" name="组合 27657"/>
              <p:cNvGrpSpPr/>
              <p:nvPr/>
            </p:nvGrpSpPr>
            <p:grpSpPr>
              <a:xfrm>
                <a:off x="71280" y="3746520"/>
                <a:ext cx="5643720" cy="2471040"/>
                <a:chOff x="71280" y="3746520"/>
                <a:chExt cx="5643720" cy="2471040"/>
              </a:xfrm>
            </p:grpSpPr>
            <p:grpSp>
              <p:nvGrpSpPr>
                <p:cNvPr id="1814" name="Group 53"/>
                <p:cNvGrpSpPr/>
                <p:nvPr/>
              </p:nvGrpSpPr>
              <p:grpSpPr>
                <a:xfrm>
                  <a:off x="1463760" y="4421160"/>
                  <a:ext cx="3241080" cy="82080"/>
                  <a:chOff x="1463760" y="4421160"/>
                  <a:chExt cx="3241080" cy="82080"/>
                </a:xfrm>
              </p:grpSpPr>
              <p:sp>
                <p:nvSpPr>
                  <p:cNvPr id="1815" name="Line 46"/>
                  <p:cNvSpPr/>
                  <p:nvPr/>
                </p:nvSpPr>
                <p:spPr>
                  <a:xfrm>
                    <a:off x="1463760" y="4492440"/>
                    <a:ext cx="3241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16" name="Line 47"/>
                  <p:cNvSpPr/>
                  <p:nvPr/>
                </p:nvSpPr>
                <p:spPr>
                  <a:xfrm>
                    <a:off x="1463760" y="4433400"/>
                    <a:ext cx="0" cy="69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17" name="Line 50"/>
                  <p:cNvSpPr/>
                  <p:nvPr/>
                </p:nvSpPr>
                <p:spPr>
                  <a:xfrm>
                    <a:off x="2543760" y="4421160"/>
                    <a:ext cx="0" cy="69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18" name="Line 51"/>
                  <p:cNvSpPr/>
                  <p:nvPr/>
                </p:nvSpPr>
                <p:spPr>
                  <a:xfrm>
                    <a:off x="3625200" y="4421160"/>
                    <a:ext cx="0" cy="69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19" name="Line 52"/>
                  <p:cNvSpPr/>
                  <p:nvPr/>
                </p:nvSpPr>
                <p:spPr>
                  <a:xfrm>
                    <a:off x="4704840" y="4421160"/>
                    <a:ext cx="0" cy="69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820" name="Line 55"/>
                <p:cNvSpPr/>
                <p:nvPr/>
              </p:nvSpPr>
              <p:spPr>
                <a:xfrm>
                  <a:off x="1463760" y="5557680"/>
                  <a:ext cx="2162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21" name="Text Box 60"/>
                <p:cNvSpPr/>
                <p:nvPr/>
              </p:nvSpPr>
              <p:spPr>
                <a:xfrm>
                  <a:off x="71280" y="4213080"/>
                  <a:ext cx="176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上衣价钱：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22" name="Text Box 61"/>
                <p:cNvSpPr/>
                <p:nvPr/>
              </p:nvSpPr>
              <p:spPr>
                <a:xfrm>
                  <a:off x="71280" y="5284800"/>
                  <a:ext cx="2413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裤子价钱：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23" name="AutoShape 62"/>
                <p:cNvSpPr/>
                <p:nvPr/>
              </p:nvSpPr>
              <p:spPr>
                <a:xfrm rot="16200000">
                  <a:off x="2977920" y="2649240"/>
                  <a:ext cx="212760" cy="3241440"/>
                </a:xfrm>
                <a:custGeom>
                  <a:avLst/>
                  <a:gdLst>
                    <a:gd name="textAreaLeft" fmla="*/ 0 w 212760"/>
                    <a:gd name="textAreaRight" fmla="*/ 76680 w 212760"/>
                    <a:gd name="textAreaTop" fmla="*/ 84240 h 3241440"/>
                    <a:gd name="textAreaBottom" fmla="*/ 3157200 h 324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24" name="Text Box 63"/>
                <p:cNvSpPr/>
                <p:nvPr/>
              </p:nvSpPr>
              <p:spPr>
                <a:xfrm>
                  <a:off x="2627280" y="3746520"/>
                  <a:ext cx="94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“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25" name="AutoShape 64"/>
                <p:cNvSpPr/>
                <p:nvPr/>
              </p:nvSpPr>
              <p:spPr>
                <a:xfrm rot="16200000">
                  <a:off x="2438280" y="4298400"/>
                  <a:ext cx="212760" cy="2162160"/>
                </a:xfrm>
                <a:custGeom>
                  <a:avLst/>
                  <a:gdLst>
                    <a:gd name="textAreaLeft" fmla="*/ 0 w 212760"/>
                    <a:gd name="textAreaRight" fmla="*/ 76680 w 212760"/>
                    <a:gd name="textAreaTop" fmla="*/ 56160 h 2162160"/>
                    <a:gd name="textAreaBottom" fmla="*/ 2106000 h 2162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pic>
              <p:nvPicPr>
                <p:cNvPr id="1826" name="Object 6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51240" y="4700520"/>
                  <a:ext cx="237960" cy="59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7" name="AutoShape 72"/>
                <p:cNvSpPr/>
                <p:nvPr/>
              </p:nvSpPr>
              <p:spPr>
                <a:xfrm rot="5400000">
                  <a:off x="2977920" y="3049560"/>
                  <a:ext cx="212760" cy="3241440"/>
                </a:xfrm>
                <a:custGeom>
                  <a:avLst/>
                  <a:gdLst>
                    <a:gd name="textAreaLeft" fmla="*/ 0 w 212760"/>
                    <a:gd name="textAreaRight" fmla="*/ 76680 w 212760"/>
                    <a:gd name="textAreaTop" fmla="*/ 84240 h 3241440"/>
                    <a:gd name="textAreaBottom" fmla="*/ 3157200 h 324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28" name="Text Box 73"/>
                <p:cNvSpPr/>
                <p:nvPr/>
              </p:nvSpPr>
              <p:spPr>
                <a:xfrm>
                  <a:off x="2833560" y="4681440"/>
                  <a:ext cx="720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？元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29" name="AutoShape 74"/>
                <p:cNvSpPr/>
                <p:nvPr/>
              </p:nvSpPr>
              <p:spPr>
                <a:xfrm rot="5400000">
                  <a:off x="2438280" y="4652640"/>
                  <a:ext cx="212760" cy="2162160"/>
                </a:xfrm>
                <a:custGeom>
                  <a:avLst/>
                  <a:gdLst>
                    <a:gd name="textAreaLeft" fmla="*/ 0 w 212760"/>
                    <a:gd name="textAreaRight" fmla="*/ 76680 w 212760"/>
                    <a:gd name="textAreaTop" fmla="*/ 56160 h 2162160"/>
                    <a:gd name="textAreaBottom" fmla="*/ 2106000 h 2162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30" name="Text Box 75"/>
                <p:cNvSpPr/>
                <p:nvPr/>
              </p:nvSpPr>
              <p:spPr>
                <a:xfrm>
                  <a:off x="2328840" y="5757840"/>
                  <a:ext cx="72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？元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31" name="AutoShape 79"/>
                <p:cNvSpPr/>
                <p:nvPr/>
              </p:nvSpPr>
              <p:spPr>
                <a:xfrm>
                  <a:off x="4776840" y="4395960"/>
                  <a:ext cx="142920" cy="1439640"/>
                </a:xfrm>
                <a:custGeom>
                  <a:avLst/>
                  <a:gdLst>
                    <a:gd name="textAreaLeft" fmla="*/ 0 w 142920"/>
                    <a:gd name="textAreaRight" fmla="*/ 51480 w 142920"/>
                    <a:gd name="textAreaTop" fmla="*/ 37440 h 1439640"/>
                    <a:gd name="textAreaBottom" fmla="*/ 1402200 h 1439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32" name="Text Box 80"/>
                <p:cNvSpPr/>
                <p:nvPr/>
              </p:nvSpPr>
              <p:spPr>
                <a:xfrm>
                  <a:off x="4849920" y="4873680"/>
                  <a:ext cx="86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00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元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833" name="Line 69"/>
              <p:cNvSpPr/>
              <p:nvPr/>
            </p:nvSpPr>
            <p:spPr>
              <a:xfrm>
                <a:off x="3625920" y="5499000"/>
                <a:ext cx="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4" name="Line 71"/>
              <p:cNvSpPr/>
              <p:nvPr/>
            </p:nvSpPr>
            <p:spPr>
              <a:xfrm>
                <a:off x="2546280" y="5486400"/>
                <a:ext cx="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835" name="Line 70"/>
            <p:cNvSpPr/>
            <p:nvPr/>
          </p:nvSpPr>
          <p:spPr>
            <a:xfrm>
              <a:off x="1463760" y="5499000"/>
              <a:ext cx="0" cy="71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836" name="Text Box 48"/>
          <p:cNvSpPr/>
          <p:nvPr/>
        </p:nvSpPr>
        <p:spPr>
          <a:xfrm>
            <a:off x="5291280" y="3284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上衣价钱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裤子价钱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元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7" name="Text Box 49"/>
          <p:cNvSpPr/>
          <p:nvPr/>
        </p:nvSpPr>
        <p:spPr>
          <a:xfrm>
            <a:off x="157320" y="340344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8" name="Rectangle 31"/>
          <p:cNvSpPr/>
          <p:nvPr/>
        </p:nvSpPr>
        <p:spPr>
          <a:xfrm>
            <a:off x="5003640" y="323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39" name="图片 27683" descr="40"/>
          <p:cNvPicPr/>
          <p:nvPr/>
        </p:nvPicPr>
        <p:blipFill>
          <a:blip r:embed="rId3"/>
          <a:stretch/>
        </p:blipFill>
        <p:spPr>
          <a:xfrm>
            <a:off x="6427800" y="1522440"/>
            <a:ext cx="1673280" cy="1619280"/>
          </a:xfrm>
          <a:prstGeom prst="rect">
            <a:avLst/>
          </a:prstGeom>
          <a:ln w="0">
            <a:noFill/>
          </a:ln>
        </p:spPr>
      </p:pic>
      <p:pic>
        <p:nvPicPr>
          <p:cNvPr id="1840" name="图片 27684" descr="90"/>
          <p:cNvPicPr/>
          <p:nvPr/>
        </p:nvPicPr>
        <p:blipFill>
          <a:blip r:embed="rId4"/>
          <a:stretch/>
        </p:blipFill>
        <p:spPr>
          <a:xfrm>
            <a:off x="4775040" y="1606680"/>
            <a:ext cx="1525680" cy="1800000"/>
          </a:xfrm>
          <a:prstGeom prst="rect">
            <a:avLst/>
          </a:prstGeom>
          <a:ln w="0">
            <a:noFill/>
          </a:ln>
        </p:spPr>
      </p:pic>
      <p:sp>
        <p:nvSpPr>
          <p:cNvPr id="1841" name="AutoShape 27"/>
          <p:cNvSpPr/>
          <p:nvPr/>
        </p:nvSpPr>
        <p:spPr>
          <a:xfrm>
            <a:off x="1403280" y="1450800"/>
            <a:ext cx="3168720" cy="1224000"/>
          </a:xfrm>
          <a:prstGeom prst="wedgeRoundRectCallout">
            <a:avLst>
              <a:gd name="adj1" fmla="val 57666"/>
              <a:gd name="adj2" fmla="val 455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这套运动服共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元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裤子价钱是上衣的   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42" name="组合 27686"/>
          <p:cNvGrpSpPr/>
          <p:nvPr/>
        </p:nvGrpSpPr>
        <p:grpSpPr>
          <a:xfrm>
            <a:off x="3693960" y="1895400"/>
            <a:ext cx="511200" cy="815040"/>
            <a:chOff x="3693960" y="1895400"/>
            <a:chExt cx="511200" cy="815040"/>
          </a:xfrm>
        </p:grpSpPr>
        <p:sp>
          <p:nvSpPr>
            <p:cNvPr id="1843" name="文本框 27687"/>
            <p:cNvSpPr/>
            <p:nvPr/>
          </p:nvSpPr>
          <p:spPr>
            <a:xfrm>
              <a:off x="3700440" y="2250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4" name="文本框 27688"/>
            <p:cNvSpPr/>
            <p:nvPr/>
          </p:nvSpPr>
          <p:spPr>
            <a:xfrm>
              <a:off x="3693960" y="1895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5" name="直接连接符 27689"/>
            <p:cNvSpPr/>
            <p:nvPr/>
          </p:nvSpPr>
          <p:spPr>
            <a:xfrm>
              <a:off x="3709800" y="23144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46" name="组合 27690"/>
          <p:cNvGrpSpPr/>
          <p:nvPr/>
        </p:nvGrpSpPr>
        <p:grpSpPr>
          <a:xfrm>
            <a:off x="5249880" y="3645000"/>
            <a:ext cx="3714480" cy="3196080"/>
            <a:chOff x="5249880" y="3645000"/>
            <a:chExt cx="3714480" cy="3196080"/>
          </a:xfrm>
        </p:grpSpPr>
        <p:sp>
          <p:nvSpPr>
            <p:cNvPr id="1847" name="TextBox 22"/>
            <p:cNvSpPr/>
            <p:nvPr/>
          </p:nvSpPr>
          <p:spPr>
            <a:xfrm>
              <a:off x="5249880" y="3645000"/>
              <a:ext cx="37144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上衣的价钱为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元，则裤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子的价钱为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元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8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80 ×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元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48" name="组合 27692"/>
            <p:cNvGrpSpPr/>
            <p:nvPr/>
          </p:nvGrpSpPr>
          <p:grpSpPr>
            <a:xfrm>
              <a:off x="7108920" y="4013280"/>
              <a:ext cx="510480" cy="815040"/>
              <a:chOff x="7108920" y="4013280"/>
              <a:chExt cx="510480" cy="815040"/>
            </a:xfrm>
          </p:grpSpPr>
          <p:sp>
            <p:nvSpPr>
              <p:cNvPr id="1849" name="文本框 27693"/>
              <p:cNvSpPr/>
              <p:nvPr/>
            </p:nvSpPr>
            <p:spPr>
              <a:xfrm>
                <a:off x="7115040" y="43686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0" name="文本框 27694"/>
              <p:cNvSpPr/>
              <p:nvPr/>
            </p:nvSpPr>
            <p:spPr>
              <a:xfrm>
                <a:off x="7108920" y="40132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1" name="直接连接符 27695"/>
              <p:cNvSpPr/>
              <p:nvPr/>
            </p:nvSpPr>
            <p:spPr>
              <a:xfrm>
                <a:off x="7124400" y="44323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52" name="组合 27696"/>
            <p:cNvGrpSpPr/>
            <p:nvPr/>
          </p:nvGrpSpPr>
          <p:grpSpPr>
            <a:xfrm>
              <a:off x="6354720" y="4411800"/>
              <a:ext cx="511200" cy="815040"/>
              <a:chOff x="6354720" y="4411800"/>
              <a:chExt cx="511200" cy="815040"/>
            </a:xfrm>
          </p:grpSpPr>
          <p:sp>
            <p:nvSpPr>
              <p:cNvPr id="1853" name="文本框 27697"/>
              <p:cNvSpPr/>
              <p:nvPr/>
            </p:nvSpPr>
            <p:spPr>
              <a:xfrm>
                <a:off x="6361200" y="4767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4" name="文本框 27698"/>
              <p:cNvSpPr/>
              <p:nvPr/>
            </p:nvSpPr>
            <p:spPr>
              <a:xfrm>
                <a:off x="6354720" y="4411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5" name="直接连接符 27699"/>
              <p:cNvSpPr/>
              <p:nvPr/>
            </p:nvSpPr>
            <p:spPr>
              <a:xfrm>
                <a:off x="6370560" y="48308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56" name="组合 27700"/>
            <p:cNvGrpSpPr/>
            <p:nvPr/>
          </p:nvGrpSpPr>
          <p:grpSpPr>
            <a:xfrm>
              <a:off x="6315120" y="5140440"/>
              <a:ext cx="511200" cy="815040"/>
              <a:chOff x="6315120" y="5140440"/>
              <a:chExt cx="511200" cy="815040"/>
            </a:xfrm>
          </p:grpSpPr>
          <p:sp>
            <p:nvSpPr>
              <p:cNvPr id="1857" name="文本框 27701"/>
              <p:cNvSpPr/>
              <p:nvPr/>
            </p:nvSpPr>
            <p:spPr>
              <a:xfrm>
                <a:off x="6321600" y="5495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8" name="文本框 27702"/>
              <p:cNvSpPr/>
              <p:nvPr/>
            </p:nvSpPr>
            <p:spPr>
              <a:xfrm>
                <a:off x="6315120" y="5140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9" name="直接连接符 27703"/>
              <p:cNvSpPr/>
              <p:nvPr/>
            </p:nvSpPr>
            <p:spPr>
              <a:xfrm>
                <a:off x="6330960" y="55594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60" name="组合 27704"/>
            <p:cNvGrpSpPr/>
            <p:nvPr/>
          </p:nvGrpSpPr>
          <p:grpSpPr>
            <a:xfrm>
              <a:off x="6977160" y="6026040"/>
              <a:ext cx="510480" cy="815040"/>
              <a:chOff x="6977160" y="6026040"/>
              <a:chExt cx="510480" cy="815040"/>
            </a:xfrm>
          </p:grpSpPr>
          <p:sp>
            <p:nvSpPr>
              <p:cNvPr id="1861" name="文本框 27705"/>
              <p:cNvSpPr/>
              <p:nvPr/>
            </p:nvSpPr>
            <p:spPr>
              <a:xfrm>
                <a:off x="6983280" y="63813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2" name="文本框 27706"/>
              <p:cNvSpPr/>
              <p:nvPr/>
            </p:nvSpPr>
            <p:spPr>
              <a:xfrm>
                <a:off x="6977160" y="60260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3" name="直接连接符 27707"/>
              <p:cNvSpPr/>
              <p:nvPr/>
            </p:nvSpPr>
            <p:spPr>
              <a:xfrm>
                <a:off x="6992640" y="64450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4" name="组合 28673"/>
          <p:cNvGrpSpPr/>
          <p:nvPr/>
        </p:nvGrpSpPr>
        <p:grpSpPr>
          <a:xfrm>
            <a:off x="66600" y="692280"/>
            <a:ext cx="5648400" cy="5363280"/>
            <a:chOff x="66600" y="692280"/>
            <a:chExt cx="5648400" cy="5363280"/>
          </a:xfrm>
        </p:grpSpPr>
        <p:grpSp>
          <p:nvGrpSpPr>
            <p:cNvPr id="1865" name="组合 28674"/>
            <p:cNvGrpSpPr/>
            <p:nvPr/>
          </p:nvGrpSpPr>
          <p:grpSpPr>
            <a:xfrm>
              <a:off x="66600" y="692280"/>
              <a:ext cx="5648400" cy="5363280"/>
              <a:chOff x="66600" y="692280"/>
              <a:chExt cx="5648400" cy="5363280"/>
            </a:xfrm>
          </p:grpSpPr>
          <p:grpSp>
            <p:nvGrpSpPr>
              <p:cNvPr id="1866" name="组合 28675"/>
              <p:cNvGrpSpPr/>
              <p:nvPr/>
            </p:nvGrpSpPr>
            <p:grpSpPr>
              <a:xfrm>
                <a:off x="1366920" y="692280"/>
                <a:ext cx="3254040" cy="4636800"/>
                <a:chOff x="1366920" y="692280"/>
                <a:chExt cx="3254040" cy="4636800"/>
              </a:xfrm>
            </p:grpSpPr>
            <p:grpSp>
              <p:nvGrpSpPr>
                <p:cNvPr id="1867" name="Group 56"/>
                <p:cNvGrpSpPr/>
                <p:nvPr/>
              </p:nvGrpSpPr>
              <p:grpSpPr>
                <a:xfrm>
                  <a:off x="1366920" y="692280"/>
                  <a:ext cx="3254040" cy="4636800"/>
                  <a:chOff x="1366920" y="692280"/>
                  <a:chExt cx="3254040" cy="4636800"/>
                </a:xfrm>
              </p:grpSpPr>
              <p:sp>
                <p:nvSpPr>
                  <p:cNvPr id="1868" name="Line 57"/>
                  <p:cNvSpPr/>
                  <p:nvPr/>
                </p:nvSpPr>
                <p:spPr>
                  <a:xfrm>
                    <a:off x="1366920" y="5329080"/>
                    <a:ext cx="3241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69" name="Line 58"/>
                  <p:cNvSpPr/>
                  <p:nvPr/>
                </p:nvSpPr>
                <p:spPr>
                  <a:xfrm>
                    <a:off x="1379520" y="692280"/>
                    <a:ext cx="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70" name="Line 59"/>
                  <p:cNvSpPr/>
                  <p:nvPr/>
                </p:nvSpPr>
                <p:spPr>
                  <a:xfrm>
                    <a:off x="2459520" y="692280"/>
                    <a:ext cx="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71" name="Line 60"/>
                  <p:cNvSpPr/>
                  <p:nvPr/>
                </p:nvSpPr>
                <p:spPr>
                  <a:xfrm>
                    <a:off x="3541320" y="692280"/>
                    <a:ext cx="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72" name="Line 61"/>
                  <p:cNvSpPr/>
                  <p:nvPr/>
                </p:nvSpPr>
                <p:spPr>
                  <a:xfrm>
                    <a:off x="4620960" y="692280"/>
                    <a:ext cx="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873" name="Line 69"/>
                <p:cNvSpPr/>
                <p:nvPr/>
              </p:nvSpPr>
              <p:spPr>
                <a:xfrm>
                  <a:off x="3541680" y="4038480"/>
                  <a:ext cx="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74" name="Line 71"/>
                <p:cNvSpPr/>
                <p:nvPr/>
              </p:nvSpPr>
              <p:spPr>
                <a:xfrm>
                  <a:off x="2462040" y="4038480"/>
                  <a:ext cx="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75" name="Line 59"/>
                <p:cNvSpPr/>
                <p:nvPr/>
              </p:nvSpPr>
              <p:spPr>
                <a:xfrm>
                  <a:off x="3571920" y="5253120"/>
                  <a:ext cx="0" cy="7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876" name="组合 28685"/>
              <p:cNvGrpSpPr/>
              <p:nvPr/>
            </p:nvGrpSpPr>
            <p:grpSpPr>
              <a:xfrm>
                <a:off x="66600" y="3382920"/>
                <a:ext cx="5648400" cy="2672640"/>
                <a:chOff x="66600" y="3382920"/>
                <a:chExt cx="5648400" cy="2672640"/>
              </a:xfrm>
            </p:grpSpPr>
            <p:grpSp>
              <p:nvGrpSpPr>
                <p:cNvPr id="1877" name="组合 28686"/>
                <p:cNvGrpSpPr/>
                <p:nvPr/>
              </p:nvGrpSpPr>
              <p:grpSpPr>
                <a:xfrm>
                  <a:off x="66600" y="3382920"/>
                  <a:ext cx="5648400" cy="2672640"/>
                  <a:chOff x="66600" y="3382920"/>
                  <a:chExt cx="5648400" cy="2672640"/>
                </a:xfrm>
              </p:grpSpPr>
              <p:grpSp>
                <p:nvGrpSpPr>
                  <p:cNvPr id="1878" name="组合 28687"/>
                  <p:cNvGrpSpPr/>
                  <p:nvPr/>
                </p:nvGrpSpPr>
                <p:grpSpPr>
                  <a:xfrm>
                    <a:off x="66600" y="3382920"/>
                    <a:ext cx="4554000" cy="2672640"/>
                    <a:chOff x="66600" y="3382920"/>
                    <a:chExt cx="4554000" cy="2672640"/>
                  </a:xfrm>
                </p:grpSpPr>
                <p:sp>
                  <p:nvSpPr>
                    <p:cNvPr id="1879" name="Text Box 63"/>
                    <p:cNvSpPr/>
                    <p:nvPr/>
                  </p:nvSpPr>
                  <p:spPr>
                    <a:xfrm>
                      <a:off x="66600" y="4998960"/>
                      <a:ext cx="1836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上衣价钱：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0" name="Text Box 64"/>
                    <p:cNvSpPr/>
                    <p:nvPr/>
                  </p:nvSpPr>
                  <p:spPr>
                    <a:xfrm>
                      <a:off x="88920" y="3789360"/>
                      <a:ext cx="20628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裤子价钱：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1" name="Line 62"/>
                    <p:cNvSpPr/>
                    <p:nvPr/>
                  </p:nvSpPr>
                  <p:spPr>
                    <a:xfrm>
                      <a:off x="1379880" y="4121280"/>
                      <a:ext cx="216288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2" name="Text Box 66"/>
                    <p:cNvSpPr/>
                    <p:nvPr/>
                  </p:nvSpPr>
                  <p:spPr>
                    <a:xfrm>
                      <a:off x="2008800" y="3382920"/>
                      <a:ext cx="1269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“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”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3" name="AutoShape 67"/>
                    <p:cNvSpPr/>
                    <p:nvPr/>
                  </p:nvSpPr>
                  <p:spPr>
                    <a:xfrm rot="16200000">
                      <a:off x="2338200" y="2801880"/>
                      <a:ext cx="243000" cy="2162880"/>
                    </a:xfrm>
                    <a:custGeom>
                      <a:avLst/>
                      <a:gdLst>
                        <a:gd name="textAreaLeft" fmla="*/ 0 w 243000"/>
                        <a:gd name="textAreaRight" fmla="*/ 87840 w 243000"/>
                        <a:gd name="textAreaTop" fmla="*/ 56160 h 2162880"/>
                        <a:gd name="textAreaBottom" fmla="*/ 2106720 h 2162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799"/>
                          </a:cubicBezTo>
                          <a:lnTo>
                            <a:pt x="10800" y="9001"/>
                          </a:lnTo>
                          <a:cubicBezTo>
                            <a:pt x="10800" y="9901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599"/>
                          </a:cubicBezTo>
                          <a:lnTo>
                            <a:pt x="10800" y="19801"/>
                          </a:lnTo>
                          <a:cubicBezTo>
                            <a:pt x="10800" y="20701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4" name="AutoShape 72"/>
                    <p:cNvSpPr/>
                    <p:nvPr/>
                  </p:nvSpPr>
                  <p:spPr>
                    <a:xfrm rot="5400000">
                      <a:off x="2877840" y="3930840"/>
                      <a:ext cx="242640" cy="3242520"/>
                    </a:xfrm>
                    <a:custGeom>
                      <a:avLst/>
                      <a:gdLst>
                        <a:gd name="textAreaLeft" fmla="*/ 0 w 242640"/>
                        <a:gd name="textAreaRight" fmla="*/ 87480 w 242640"/>
                        <a:gd name="textAreaTop" fmla="*/ 84240 h 3242520"/>
                        <a:gd name="textAreaBottom" fmla="*/ 3158280 h 32425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799"/>
                          </a:cubicBezTo>
                          <a:lnTo>
                            <a:pt x="10800" y="9001"/>
                          </a:lnTo>
                          <a:cubicBezTo>
                            <a:pt x="10800" y="9901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599"/>
                          </a:cubicBezTo>
                          <a:lnTo>
                            <a:pt x="10800" y="19801"/>
                          </a:lnTo>
                          <a:cubicBezTo>
                            <a:pt x="10800" y="20701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5" name="Text Box 73"/>
                    <p:cNvSpPr/>
                    <p:nvPr/>
                  </p:nvSpPr>
                  <p:spPr>
                    <a:xfrm>
                      <a:off x="2750400" y="5595840"/>
                      <a:ext cx="720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？元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6" name="AutoShape 74"/>
                    <p:cNvSpPr/>
                    <p:nvPr/>
                  </p:nvSpPr>
                  <p:spPr>
                    <a:xfrm rot="5400000">
                      <a:off x="2338200" y="3202200"/>
                      <a:ext cx="243000" cy="2162880"/>
                    </a:xfrm>
                    <a:custGeom>
                      <a:avLst/>
                      <a:gdLst>
                        <a:gd name="textAreaLeft" fmla="*/ 0 w 243000"/>
                        <a:gd name="textAreaRight" fmla="*/ 87840 w 243000"/>
                        <a:gd name="textAreaTop" fmla="*/ 56160 h 2162880"/>
                        <a:gd name="textAreaBottom" fmla="*/ 2106720 h 2162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799"/>
                          </a:cubicBezTo>
                          <a:lnTo>
                            <a:pt x="10800" y="9001"/>
                          </a:lnTo>
                          <a:cubicBezTo>
                            <a:pt x="10800" y="9901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599"/>
                          </a:cubicBezTo>
                          <a:lnTo>
                            <a:pt x="10800" y="19801"/>
                          </a:lnTo>
                          <a:cubicBezTo>
                            <a:pt x="10800" y="20701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7" name="Text Box 75"/>
                    <p:cNvSpPr/>
                    <p:nvPr/>
                  </p:nvSpPr>
                  <p:spPr>
                    <a:xfrm>
                      <a:off x="2220120" y="4311720"/>
                      <a:ext cx="7221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？元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88" name="AutoShape 67"/>
                    <p:cNvSpPr/>
                    <p:nvPr/>
                  </p:nvSpPr>
                  <p:spPr>
                    <a:xfrm rot="16200000">
                      <a:off x="2883240" y="3492360"/>
                      <a:ext cx="161640" cy="3215880"/>
                    </a:xfrm>
                    <a:custGeom>
                      <a:avLst/>
                      <a:gdLst>
                        <a:gd name="textAreaLeft" fmla="*/ 0 w 161640"/>
                        <a:gd name="textAreaRight" fmla="*/ 58320 w 161640"/>
                        <a:gd name="textAreaTop" fmla="*/ 37080 h 3215880"/>
                        <a:gd name="textAreaBottom" fmla="*/ 3178800 h 3215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402"/>
                            <a:pt x="10800" y="803"/>
                          </a:cubicBezTo>
                          <a:lnTo>
                            <a:pt x="10800" y="9997"/>
                          </a:lnTo>
                          <a:cubicBezTo>
                            <a:pt x="10800" y="10399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202"/>
                            <a:pt x="10800" y="11603"/>
                          </a:cubicBezTo>
                          <a:lnTo>
                            <a:pt x="10800" y="20797"/>
                          </a:lnTo>
                          <a:cubicBezTo>
                            <a:pt x="10800" y="21199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pic>
                  <p:nvPicPr>
                    <p:cNvPr id="1889" name="Object 10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922120" y="4449600"/>
                      <a:ext cx="222120" cy="57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1890" name="组合 28699"/>
                  <p:cNvGrpSpPr/>
                  <p:nvPr/>
                </p:nvGrpSpPr>
                <p:grpSpPr>
                  <a:xfrm>
                    <a:off x="4597560" y="3803760"/>
                    <a:ext cx="1117440" cy="1544400"/>
                    <a:chOff x="4597560" y="3803760"/>
                    <a:chExt cx="1117440" cy="1544400"/>
                  </a:xfrm>
                </p:grpSpPr>
                <p:sp>
                  <p:nvSpPr>
                    <p:cNvPr id="1891" name="AutoShape 76"/>
                    <p:cNvSpPr/>
                    <p:nvPr/>
                  </p:nvSpPr>
                  <p:spPr>
                    <a:xfrm>
                      <a:off x="4697280" y="3803760"/>
                      <a:ext cx="141480" cy="1544400"/>
                    </a:xfrm>
                    <a:custGeom>
                      <a:avLst/>
                      <a:gdLst>
                        <a:gd name="textAreaLeft" fmla="*/ 0 w 141480"/>
                        <a:gd name="textAreaRight" fmla="*/ 51120 w 141480"/>
                        <a:gd name="textAreaTop" fmla="*/ 39960 h 1544400"/>
                        <a:gd name="textAreaBottom" fmla="*/ 1504440 h 15444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799"/>
                          </a:cubicBezTo>
                          <a:lnTo>
                            <a:pt x="10800" y="9001"/>
                          </a:lnTo>
                          <a:cubicBezTo>
                            <a:pt x="10800" y="9901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599"/>
                          </a:cubicBezTo>
                          <a:lnTo>
                            <a:pt x="10800" y="19801"/>
                          </a:lnTo>
                          <a:cubicBezTo>
                            <a:pt x="10800" y="20701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92" name="Text Box 77"/>
                    <p:cNvSpPr/>
                    <p:nvPr/>
                  </p:nvSpPr>
                  <p:spPr>
                    <a:xfrm>
                      <a:off x="4849920" y="4383000"/>
                      <a:ext cx="865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300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元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93" name="Line 59"/>
                    <p:cNvSpPr/>
                    <p:nvPr/>
                  </p:nvSpPr>
                  <p:spPr>
                    <a:xfrm>
                      <a:off x="4597560" y="5254560"/>
                      <a:ext cx="0" cy="745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94" name="Line 59"/>
                <p:cNvSpPr/>
                <p:nvPr/>
              </p:nvSpPr>
              <p:spPr>
                <a:xfrm>
                  <a:off x="2487600" y="5230800"/>
                  <a:ext cx="0" cy="7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895" name="Line 59"/>
            <p:cNvSpPr/>
            <p:nvPr/>
          </p:nvSpPr>
          <p:spPr>
            <a:xfrm>
              <a:off x="1357200" y="5254560"/>
              <a:ext cx="0" cy="745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896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7" name="AutoShape 3"/>
          <p:cNvSpPr/>
          <p:nvPr/>
        </p:nvSpPr>
        <p:spPr>
          <a:xfrm>
            <a:off x="1116000" y="2060640"/>
            <a:ext cx="2735280" cy="64764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8" name="Text Box 21"/>
          <p:cNvSpPr/>
          <p:nvPr/>
        </p:nvSpPr>
        <p:spPr>
          <a:xfrm>
            <a:off x="809640" y="598320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如果把裤子的价钱看作是单位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那么上衣的价钱是裤子的几分之几？应该怎样设未知数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99" name="Object 4" descr=""/>
          <p:cNvPicPr/>
          <p:nvPr/>
        </p:nvPicPr>
        <p:blipFill>
          <a:blip r:embed="rId2"/>
          <a:stretch/>
        </p:blipFill>
        <p:spPr>
          <a:xfrm>
            <a:off x="4657680" y="3267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900" name="Object 55" descr=""/>
          <p:cNvPicPr/>
          <p:nvPr/>
        </p:nvPicPr>
        <p:blipFill>
          <a:blip r:embed="rId3"/>
          <a:stretch/>
        </p:blipFill>
        <p:spPr>
          <a:xfrm>
            <a:off x="336600" y="3232080"/>
            <a:ext cx="114120" cy="212760"/>
          </a:xfrm>
          <a:prstGeom prst="rect">
            <a:avLst/>
          </a:prstGeom>
          <a:ln w="0">
            <a:noFill/>
          </a:ln>
        </p:spPr>
      </p:pic>
      <p:sp>
        <p:nvSpPr>
          <p:cNvPr id="1901" name="TextBox 46"/>
          <p:cNvSpPr/>
          <p:nvPr/>
        </p:nvSpPr>
        <p:spPr>
          <a:xfrm>
            <a:off x="34920" y="597204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2" name="Text Box 52"/>
          <p:cNvSpPr/>
          <p:nvPr/>
        </p:nvSpPr>
        <p:spPr>
          <a:xfrm>
            <a:off x="5076720" y="30304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上衣价钱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裤子价钱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元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3" name="Text Box 53"/>
          <p:cNvSpPr/>
          <p:nvPr/>
        </p:nvSpPr>
        <p:spPr>
          <a:xfrm>
            <a:off x="71280" y="297180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4" name="Rectangle 18"/>
          <p:cNvSpPr/>
          <p:nvPr/>
        </p:nvSpPr>
        <p:spPr>
          <a:xfrm>
            <a:off x="4786200" y="30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5" name="AutoShape 3"/>
          <p:cNvSpPr/>
          <p:nvPr/>
        </p:nvSpPr>
        <p:spPr>
          <a:xfrm>
            <a:off x="973080" y="2976480"/>
            <a:ext cx="2735280" cy="7416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06" name="Object 56" descr=""/>
          <p:cNvPicPr/>
          <p:nvPr/>
        </p:nvPicPr>
        <p:blipFill>
          <a:blip r:embed="rId4"/>
          <a:stretch/>
        </p:blipFill>
        <p:spPr>
          <a:xfrm>
            <a:off x="4514760" y="4427640"/>
            <a:ext cx="114480" cy="247680"/>
          </a:xfrm>
          <a:prstGeom prst="rect">
            <a:avLst/>
          </a:prstGeom>
          <a:ln w="0">
            <a:noFill/>
          </a:ln>
        </p:spPr>
      </p:pic>
      <p:sp>
        <p:nvSpPr>
          <p:cNvPr id="1907" name="Line 70"/>
          <p:cNvSpPr/>
          <p:nvPr/>
        </p:nvSpPr>
        <p:spPr>
          <a:xfrm>
            <a:off x="1379520" y="4038480"/>
            <a:ext cx="0" cy="828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8" name="Text Box 28"/>
          <p:cNvSpPr/>
          <p:nvPr/>
        </p:nvSpPr>
        <p:spPr>
          <a:xfrm>
            <a:off x="1405080" y="282744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上衣和裤子各多少钱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9" name="Text Box 44"/>
          <p:cNvSpPr/>
          <p:nvPr/>
        </p:nvSpPr>
        <p:spPr>
          <a:xfrm>
            <a:off x="828720" y="155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10" name="图片 28719" descr="40"/>
          <p:cNvPicPr/>
          <p:nvPr/>
        </p:nvPicPr>
        <p:blipFill>
          <a:blip r:embed="rId5"/>
          <a:stretch/>
        </p:blipFill>
        <p:spPr>
          <a:xfrm>
            <a:off x="6427800" y="1266840"/>
            <a:ext cx="1673280" cy="1619280"/>
          </a:xfrm>
          <a:prstGeom prst="rect">
            <a:avLst/>
          </a:prstGeom>
          <a:ln w="0">
            <a:noFill/>
          </a:ln>
        </p:spPr>
      </p:pic>
      <p:pic>
        <p:nvPicPr>
          <p:cNvPr id="1911" name="图片 28720" descr="90"/>
          <p:cNvPicPr/>
          <p:nvPr/>
        </p:nvPicPr>
        <p:blipFill>
          <a:blip r:embed="rId6"/>
          <a:stretch/>
        </p:blipFill>
        <p:spPr>
          <a:xfrm>
            <a:off x="4775040" y="1351080"/>
            <a:ext cx="1525680" cy="1800000"/>
          </a:xfrm>
          <a:prstGeom prst="rect">
            <a:avLst/>
          </a:prstGeom>
          <a:ln w="0">
            <a:noFill/>
          </a:ln>
        </p:spPr>
      </p:pic>
      <p:grpSp>
        <p:nvGrpSpPr>
          <p:cNvPr id="1912" name="组合 28721"/>
          <p:cNvGrpSpPr/>
          <p:nvPr/>
        </p:nvGrpSpPr>
        <p:grpSpPr>
          <a:xfrm>
            <a:off x="5202360" y="3390840"/>
            <a:ext cx="3714480" cy="2654280"/>
            <a:chOff x="5202360" y="3390840"/>
            <a:chExt cx="3714480" cy="2654280"/>
          </a:xfrm>
        </p:grpSpPr>
        <p:sp>
          <p:nvSpPr>
            <p:cNvPr id="1913" name="TextBox 22"/>
            <p:cNvSpPr/>
            <p:nvPr/>
          </p:nvSpPr>
          <p:spPr>
            <a:xfrm>
              <a:off x="5202360" y="3390840"/>
              <a:ext cx="37144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裤子的价钱为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元，则上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衣的价钱为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元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8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元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14" name="组合 28723"/>
            <p:cNvGrpSpPr/>
            <p:nvPr/>
          </p:nvGrpSpPr>
          <p:grpSpPr>
            <a:xfrm>
              <a:off x="7068960" y="3603600"/>
              <a:ext cx="511200" cy="815040"/>
              <a:chOff x="7068960" y="3603600"/>
              <a:chExt cx="511200" cy="815040"/>
            </a:xfrm>
          </p:grpSpPr>
          <p:sp>
            <p:nvSpPr>
              <p:cNvPr id="1915" name="文本框 28724"/>
              <p:cNvSpPr/>
              <p:nvPr/>
            </p:nvSpPr>
            <p:spPr>
              <a:xfrm>
                <a:off x="7075440" y="3958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6" name="文本框 28725"/>
              <p:cNvSpPr/>
              <p:nvPr/>
            </p:nvSpPr>
            <p:spPr>
              <a:xfrm>
                <a:off x="7068960" y="36036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7" name="直接连接符 28726"/>
              <p:cNvSpPr/>
              <p:nvPr/>
            </p:nvSpPr>
            <p:spPr>
              <a:xfrm>
                <a:off x="7084800" y="40226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18" name="组合 28727"/>
            <p:cNvGrpSpPr/>
            <p:nvPr/>
          </p:nvGrpSpPr>
          <p:grpSpPr>
            <a:xfrm>
              <a:off x="6719760" y="4025880"/>
              <a:ext cx="511200" cy="815040"/>
              <a:chOff x="6719760" y="4025880"/>
              <a:chExt cx="511200" cy="815040"/>
            </a:xfrm>
          </p:grpSpPr>
          <p:sp>
            <p:nvSpPr>
              <p:cNvPr id="1919" name="文本框 28728"/>
              <p:cNvSpPr/>
              <p:nvPr/>
            </p:nvSpPr>
            <p:spPr>
              <a:xfrm>
                <a:off x="6726240" y="4381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20" name="文本框 28729"/>
              <p:cNvSpPr/>
              <p:nvPr/>
            </p:nvSpPr>
            <p:spPr>
              <a:xfrm>
                <a:off x="6719760" y="4025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21" name="直接连接符 28730"/>
              <p:cNvSpPr/>
              <p:nvPr/>
            </p:nvSpPr>
            <p:spPr>
              <a:xfrm>
                <a:off x="6735600" y="44449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22" name="组合 28731"/>
            <p:cNvGrpSpPr/>
            <p:nvPr/>
          </p:nvGrpSpPr>
          <p:grpSpPr>
            <a:xfrm>
              <a:off x="6707160" y="4667400"/>
              <a:ext cx="511200" cy="815040"/>
              <a:chOff x="6707160" y="4667400"/>
              <a:chExt cx="511200" cy="815040"/>
            </a:xfrm>
          </p:grpSpPr>
          <p:sp>
            <p:nvSpPr>
              <p:cNvPr id="1923" name="文本框 28732"/>
              <p:cNvSpPr/>
              <p:nvPr/>
            </p:nvSpPr>
            <p:spPr>
              <a:xfrm>
                <a:off x="6713640" y="5022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24" name="文本框 28733"/>
              <p:cNvSpPr/>
              <p:nvPr/>
            </p:nvSpPr>
            <p:spPr>
              <a:xfrm>
                <a:off x="6707160" y="4667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25" name="直接连接符 28734"/>
              <p:cNvSpPr/>
              <p:nvPr/>
            </p:nvSpPr>
            <p:spPr>
              <a:xfrm>
                <a:off x="6723000" y="50864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926" name="AutoShape 27"/>
          <p:cNvSpPr/>
          <p:nvPr/>
        </p:nvSpPr>
        <p:spPr>
          <a:xfrm>
            <a:off x="1403280" y="1450800"/>
            <a:ext cx="3168720" cy="1224000"/>
          </a:xfrm>
          <a:prstGeom prst="wedgeRoundRectCallout">
            <a:avLst>
              <a:gd name="adj1" fmla="val 57666"/>
              <a:gd name="adj2" fmla="val 455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这套运动服共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元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裤子价钱是上衣的   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27" name="组合 28736"/>
          <p:cNvGrpSpPr/>
          <p:nvPr/>
        </p:nvGrpSpPr>
        <p:grpSpPr>
          <a:xfrm>
            <a:off x="3693960" y="1895400"/>
            <a:ext cx="511200" cy="815040"/>
            <a:chOff x="3693960" y="1895400"/>
            <a:chExt cx="511200" cy="815040"/>
          </a:xfrm>
        </p:grpSpPr>
        <p:sp>
          <p:nvSpPr>
            <p:cNvPr id="1928" name="文本框 28737"/>
            <p:cNvSpPr/>
            <p:nvPr/>
          </p:nvSpPr>
          <p:spPr>
            <a:xfrm>
              <a:off x="3700440" y="2250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29" name="文本框 28738"/>
            <p:cNvSpPr/>
            <p:nvPr/>
          </p:nvSpPr>
          <p:spPr>
            <a:xfrm>
              <a:off x="3693960" y="1895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30" name="直接连接符 28739"/>
            <p:cNvSpPr/>
            <p:nvPr/>
          </p:nvSpPr>
          <p:spPr>
            <a:xfrm>
              <a:off x="3709800" y="23144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2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3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934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935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936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937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938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939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940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941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942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1228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复习导入，揭示课题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2"/>
          <p:cNvSpPr/>
          <p:nvPr/>
        </p:nvSpPr>
        <p:spPr>
          <a:xfrm>
            <a:off x="642960" y="1484280"/>
            <a:ext cx="32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图回答问题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TextBox 50"/>
          <p:cNvSpPr/>
          <p:nvPr/>
        </p:nvSpPr>
        <p:spPr>
          <a:xfrm>
            <a:off x="285840" y="305280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TextBox 51"/>
          <p:cNvSpPr/>
          <p:nvPr/>
        </p:nvSpPr>
        <p:spPr>
          <a:xfrm>
            <a:off x="971640" y="306864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从图中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88" name="Group 43"/>
          <p:cNvGrpSpPr/>
          <p:nvPr/>
        </p:nvGrpSpPr>
        <p:grpSpPr>
          <a:xfrm>
            <a:off x="1214280" y="2060640"/>
            <a:ext cx="5059440" cy="964440"/>
            <a:chOff x="1214280" y="2060640"/>
            <a:chExt cx="5059440" cy="964440"/>
          </a:xfrm>
        </p:grpSpPr>
        <p:sp>
          <p:nvSpPr>
            <p:cNvPr id="1489" name="TextBox 3"/>
            <p:cNvSpPr/>
            <p:nvPr/>
          </p:nvSpPr>
          <p:spPr>
            <a:xfrm>
              <a:off x="1214280" y="206064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女生人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0" name="TextBox 4"/>
            <p:cNvSpPr/>
            <p:nvPr/>
          </p:nvSpPr>
          <p:spPr>
            <a:xfrm>
              <a:off x="1214280" y="256536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男生人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491" name="组合 27"/>
            <p:cNvGrpSpPr/>
            <p:nvPr/>
          </p:nvGrpSpPr>
          <p:grpSpPr>
            <a:xfrm>
              <a:off x="2700360" y="2781360"/>
              <a:ext cx="3573360" cy="144360"/>
              <a:chOff x="2700360" y="2781360"/>
              <a:chExt cx="3573360" cy="144360"/>
            </a:xfrm>
          </p:grpSpPr>
          <p:sp>
            <p:nvSpPr>
              <p:cNvPr id="1492" name="直接连接符 6"/>
              <p:cNvSpPr/>
              <p:nvPr/>
            </p:nvSpPr>
            <p:spPr>
              <a:xfrm>
                <a:off x="2701080" y="2924280"/>
                <a:ext cx="3572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3" name="直接连接符 8"/>
              <p:cNvSpPr/>
              <p:nvPr/>
            </p:nvSpPr>
            <p:spPr>
              <a:xfrm flipH="1">
                <a:off x="2700360" y="278208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4" name="直接连接符 9"/>
              <p:cNvSpPr/>
              <p:nvPr/>
            </p:nvSpPr>
            <p:spPr>
              <a:xfrm flipH="1">
                <a:off x="3413880" y="278136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5" name="直接连接符 10"/>
              <p:cNvSpPr/>
              <p:nvPr/>
            </p:nvSpPr>
            <p:spPr>
              <a:xfrm flipH="1">
                <a:off x="4128480" y="278136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6" name="直接连接符 11"/>
              <p:cNvSpPr/>
              <p:nvPr/>
            </p:nvSpPr>
            <p:spPr>
              <a:xfrm flipH="1">
                <a:off x="4843080" y="278136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7" name="直接连接符 12"/>
              <p:cNvSpPr/>
              <p:nvPr/>
            </p:nvSpPr>
            <p:spPr>
              <a:xfrm flipH="1">
                <a:off x="5557680" y="278136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8" name="直接连接符 13"/>
              <p:cNvSpPr/>
              <p:nvPr/>
            </p:nvSpPr>
            <p:spPr>
              <a:xfrm flipH="1">
                <a:off x="6272280" y="2781360"/>
                <a:ext cx="144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499" name="组合 38"/>
            <p:cNvGrpSpPr/>
            <p:nvPr/>
          </p:nvGrpSpPr>
          <p:grpSpPr>
            <a:xfrm>
              <a:off x="2700360" y="2205000"/>
              <a:ext cx="2859120" cy="322200"/>
              <a:chOff x="2700360" y="2205000"/>
              <a:chExt cx="2859120" cy="322200"/>
            </a:xfrm>
          </p:grpSpPr>
          <p:sp>
            <p:nvSpPr>
              <p:cNvPr id="1500" name="直接连接符 15"/>
              <p:cNvSpPr/>
              <p:nvPr/>
            </p:nvSpPr>
            <p:spPr>
              <a:xfrm>
                <a:off x="2701080" y="2347560"/>
                <a:ext cx="2858400" cy="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1" name="直接连接符 16"/>
              <p:cNvSpPr/>
              <p:nvPr/>
            </p:nvSpPr>
            <p:spPr>
              <a:xfrm flipH="1">
                <a:off x="2700360" y="2205720"/>
                <a:ext cx="144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2" name="直接连接符 17"/>
              <p:cNvSpPr/>
              <p:nvPr/>
            </p:nvSpPr>
            <p:spPr>
              <a:xfrm flipH="1">
                <a:off x="3413880" y="2205000"/>
                <a:ext cx="144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3" name="直接连接符 18"/>
              <p:cNvSpPr/>
              <p:nvPr/>
            </p:nvSpPr>
            <p:spPr>
              <a:xfrm flipH="1">
                <a:off x="4128840" y="2205720"/>
                <a:ext cx="144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4" name="直接连接符 19"/>
              <p:cNvSpPr/>
              <p:nvPr/>
            </p:nvSpPr>
            <p:spPr>
              <a:xfrm flipH="1">
                <a:off x="4843440" y="2205720"/>
                <a:ext cx="144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5" name="直接连接符 20"/>
              <p:cNvSpPr/>
              <p:nvPr/>
            </p:nvSpPr>
            <p:spPr>
              <a:xfrm flipH="1">
                <a:off x="5558040" y="2205720"/>
                <a:ext cx="144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pic>
            <p:nvPicPr>
              <p:cNvPr id="1506" name="Object 4" descr=""/>
              <p:cNvPicPr/>
              <p:nvPr/>
            </p:nvPicPr>
            <p:blipFill>
              <a:blip r:embed="rId1"/>
              <a:stretch/>
            </p:blipFill>
            <p:spPr>
              <a:xfrm>
                <a:off x="4716360" y="2311920"/>
                <a:ext cx="114120" cy="2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07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8" name="组合 19481"/>
          <p:cNvGrpSpPr/>
          <p:nvPr/>
        </p:nvGrpSpPr>
        <p:grpSpPr>
          <a:xfrm>
            <a:off x="971640" y="3429000"/>
            <a:ext cx="8072280" cy="2416680"/>
            <a:chOff x="971640" y="3429000"/>
            <a:chExt cx="8072280" cy="2416680"/>
          </a:xfrm>
        </p:grpSpPr>
        <p:sp>
          <p:nvSpPr>
            <p:cNvPr id="1509" name="TextBox 51"/>
            <p:cNvSpPr/>
            <p:nvPr/>
          </p:nvSpPr>
          <p:spPr>
            <a:xfrm>
              <a:off x="971640" y="3429000"/>
              <a:ext cx="80722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②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根据线段图，你能说说男、女生人数间的数量关系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男生人数与女生人数比较；女生人数是单位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；把女生人数平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均分成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男生人数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；男生人数是女生人数的     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女生人数与男生人数比较；男生人数是单位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；把男生人数平均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分成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女生人数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；女生人数是男生人数的      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10" name="组合 19483"/>
            <p:cNvGrpSpPr/>
            <p:nvPr/>
          </p:nvGrpSpPr>
          <p:grpSpPr>
            <a:xfrm>
              <a:off x="7267680" y="4210200"/>
              <a:ext cx="511200" cy="815040"/>
              <a:chOff x="7267680" y="4210200"/>
              <a:chExt cx="511200" cy="815040"/>
            </a:xfrm>
          </p:grpSpPr>
          <p:sp>
            <p:nvSpPr>
              <p:cNvPr id="1511" name="文本框 19484"/>
              <p:cNvSpPr/>
              <p:nvPr/>
            </p:nvSpPr>
            <p:spPr>
              <a:xfrm>
                <a:off x="7274160" y="4565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2" name="文本框 19485"/>
              <p:cNvSpPr/>
              <p:nvPr/>
            </p:nvSpPr>
            <p:spPr>
              <a:xfrm>
                <a:off x="7267680" y="4210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3" name="直接连接符 19486"/>
              <p:cNvSpPr/>
              <p:nvPr/>
            </p:nvSpPr>
            <p:spPr>
              <a:xfrm>
                <a:off x="7283520" y="46292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14" name="组合 19487"/>
            <p:cNvGrpSpPr/>
            <p:nvPr/>
          </p:nvGrpSpPr>
          <p:grpSpPr>
            <a:xfrm>
              <a:off x="7059600" y="5030640"/>
              <a:ext cx="511200" cy="815040"/>
              <a:chOff x="7059600" y="5030640"/>
              <a:chExt cx="511200" cy="815040"/>
            </a:xfrm>
          </p:grpSpPr>
          <p:sp>
            <p:nvSpPr>
              <p:cNvPr id="1515" name="文本框 19488"/>
              <p:cNvSpPr/>
              <p:nvPr/>
            </p:nvSpPr>
            <p:spPr>
              <a:xfrm>
                <a:off x="7066080" y="5385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6" name="文本框 19489"/>
              <p:cNvSpPr/>
              <p:nvPr/>
            </p:nvSpPr>
            <p:spPr>
              <a:xfrm>
                <a:off x="7059600" y="5030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7" name="直接连接符 19490"/>
              <p:cNvSpPr/>
              <p:nvPr/>
            </p:nvSpPr>
            <p:spPr>
              <a:xfrm>
                <a:off x="7075440" y="5449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18" name="组合 19491"/>
          <p:cNvGrpSpPr/>
          <p:nvPr/>
        </p:nvGrpSpPr>
        <p:grpSpPr>
          <a:xfrm>
            <a:off x="1000080" y="5364000"/>
            <a:ext cx="8540640" cy="1380240"/>
            <a:chOff x="1000080" y="5364000"/>
            <a:chExt cx="8540640" cy="1380240"/>
          </a:xfrm>
        </p:grpSpPr>
        <p:sp>
          <p:nvSpPr>
            <p:cNvPr id="1519" name="TextBox 51"/>
            <p:cNvSpPr/>
            <p:nvPr/>
          </p:nvSpPr>
          <p:spPr>
            <a:xfrm>
              <a:off x="1000080" y="5474880"/>
              <a:ext cx="85406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③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如果男生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人，女生有多少人？你是怎样得到的？（女生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人。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)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如果女生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人，男生有多少人？你是怎样得到的？（男生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人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20" name="组合 19493"/>
            <p:cNvGrpSpPr/>
            <p:nvPr/>
          </p:nvGrpSpPr>
          <p:grpSpPr>
            <a:xfrm>
              <a:off x="7873920" y="5364000"/>
              <a:ext cx="511200" cy="815040"/>
              <a:chOff x="7873920" y="5364000"/>
              <a:chExt cx="511200" cy="815040"/>
            </a:xfrm>
          </p:grpSpPr>
          <p:sp>
            <p:nvSpPr>
              <p:cNvPr id="1521" name="文本框 19494"/>
              <p:cNvSpPr/>
              <p:nvPr/>
            </p:nvSpPr>
            <p:spPr>
              <a:xfrm>
                <a:off x="7880400" y="5719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2" name="文本框 19495"/>
              <p:cNvSpPr/>
              <p:nvPr/>
            </p:nvSpPr>
            <p:spPr>
              <a:xfrm>
                <a:off x="7873920" y="5364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3" name="直接连接符 19496"/>
              <p:cNvSpPr/>
              <p:nvPr/>
            </p:nvSpPr>
            <p:spPr>
              <a:xfrm>
                <a:off x="7889760" y="5783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24" name="组合 19497"/>
            <p:cNvGrpSpPr/>
            <p:nvPr/>
          </p:nvGrpSpPr>
          <p:grpSpPr>
            <a:xfrm>
              <a:off x="7878600" y="5929200"/>
              <a:ext cx="511200" cy="815040"/>
              <a:chOff x="7878600" y="5929200"/>
              <a:chExt cx="511200" cy="815040"/>
            </a:xfrm>
          </p:grpSpPr>
          <p:sp>
            <p:nvSpPr>
              <p:cNvPr id="1525" name="文本框 19498"/>
              <p:cNvSpPr/>
              <p:nvPr/>
            </p:nvSpPr>
            <p:spPr>
              <a:xfrm>
                <a:off x="7885080" y="6284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6" name="文本框 19499"/>
              <p:cNvSpPr/>
              <p:nvPr/>
            </p:nvSpPr>
            <p:spPr>
              <a:xfrm>
                <a:off x="7878600" y="5929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7" name="直接连接符 19500"/>
              <p:cNvSpPr/>
              <p:nvPr/>
            </p:nvSpPr>
            <p:spPr>
              <a:xfrm>
                <a:off x="7894440" y="63482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28" name="矩形 19501"/>
          <p:cNvSpPr/>
          <p:nvPr/>
        </p:nvSpPr>
        <p:spPr>
          <a:xfrm>
            <a:off x="18720" y="4503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9" name="矩形 19502"/>
          <p:cNvSpPr/>
          <p:nvPr/>
        </p:nvSpPr>
        <p:spPr>
          <a:xfrm>
            <a:off x="234720" y="4719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1" name="Rectangle 2"/>
          <p:cNvSpPr/>
          <p:nvPr/>
        </p:nvSpPr>
        <p:spPr>
          <a:xfrm>
            <a:off x="357120" y="141300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阅读与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2" name="TextBox 34"/>
          <p:cNvSpPr/>
          <p:nvPr/>
        </p:nvSpPr>
        <p:spPr>
          <a:xfrm>
            <a:off x="228600" y="41004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3" name="TextBox 36"/>
          <p:cNvSpPr/>
          <p:nvPr/>
        </p:nvSpPr>
        <p:spPr>
          <a:xfrm>
            <a:off x="900000" y="411480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从题目中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34" name="Object 18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35" name="TextBox 36"/>
          <p:cNvSpPr/>
          <p:nvPr/>
        </p:nvSpPr>
        <p:spPr>
          <a:xfrm>
            <a:off x="898560" y="57182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道题怎样解答，请你根据题意画出线段图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36" name="图片 20487" descr="39"/>
          <p:cNvPicPr/>
          <p:nvPr/>
        </p:nvPicPr>
        <p:blipFill>
          <a:blip r:embed="rId2"/>
          <a:stretch/>
        </p:blipFill>
        <p:spPr>
          <a:xfrm>
            <a:off x="1031760" y="1967040"/>
            <a:ext cx="4573800" cy="2158920"/>
          </a:xfrm>
          <a:prstGeom prst="rect">
            <a:avLst/>
          </a:prstGeom>
          <a:ln w="0">
            <a:noFill/>
          </a:ln>
        </p:spPr>
      </p:pic>
      <p:sp>
        <p:nvSpPr>
          <p:cNvPr id="1537" name="矩形 20488"/>
          <p:cNvSpPr/>
          <p:nvPr/>
        </p:nvSpPr>
        <p:spPr>
          <a:xfrm>
            <a:off x="5270400" y="3673440"/>
            <a:ext cx="40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上半场和下半场各得多少分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38" name="组合 20489"/>
          <p:cNvGrpSpPr/>
          <p:nvPr/>
        </p:nvGrpSpPr>
        <p:grpSpPr>
          <a:xfrm>
            <a:off x="900000" y="4510080"/>
            <a:ext cx="7848720" cy="1396080"/>
            <a:chOff x="900000" y="4510080"/>
            <a:chExt cx="7848720" cy="1396080"/>
          </a:xfrm>
        </p:grpSpPr>
        <p:sp>
          <p:nvSpPr>
            <p:cNvPr id="1539" name="TextBox 36"/>
            <p:cNvSpPr/>
            <p:nvPr/>
          </p:nvSpPr>
          <p:spPr>
            <a:xfrm>
              <a:off x="900000" y="451008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②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怎样理解“下半场得分只有上半场的一半”这句话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下半场得分和上半场得分在比较；上半场得分看作单位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；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下半场得分是上半场的     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40" name="组合 20491"/>
            <p:cNvGrpSpPr/>
            <p:nvPr/>
          </p:nvGrpSpPr>
          <p:grpSpPr>
            <a:xfrm>
              <a:off x="3835440" y="5091120"/>
              <a:ext cx="511200" cy="815040"/>
              <a:chOff x="3835440" y="5091120"/>
              <a:chExt cx="511200" cy="815040"/>
            </a:xfrm>
          </p:grpSpPr>
          <p:sp>
            <p:nvSpPr>
              <p:cNvPr id="1541" name="文本框 20492"/>
              <p:cNvSpPr/>
              <p:nvPr/>
            </p:nvSpPr>
            <p:spPr>
              <a:xfrm>
                <a:off x="3841920" y="5446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2" name="文本框 20493"/>
              <p:cNvSpPr/>
              <p:nvPr/>
            </p:nvSpPr>
            <p:spPr>
              <a:xfrm>
                <a:off x="3835440" y="5091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3" name="直接连接符 20494"/>
              <p:cNvSpPr/>
              <p:nvPr/>
            </p:nvSpPr>
            <p:spPr>
              <a:xfrm>
                <a:off x="3851280" y="55101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5" name="Rectangle 2"/>
          <p:cNvSpPr/>
          <p:nvPr/>
        </p:nvSpPr>
        <p:spPr>
          <a:xfrm>
            <a:off x="357120" y="141300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6" name="TextBox 135"/>
          <p:cNvSpPr/>
          <p:nvPr/>
        </p:nvSpPr>
        <p:spPr>
          <a:xfrm>
            <a:off x="250920" y="52704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7" name="TextBox 136"/>
          <p:cNvSpPr/>
          <p:nvPr/>
        </p:nvSpPr>
        <p:spPr>
          <a:xfrm>
            <a:off x="965160" y="527688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们能借助线段图找出一个等量关系式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8" name="TextBox 136"/>
          <p:cNvSpPr/>
          <p:nvPr/>
        </p:nvSpPr>
        <p:spPr>
          <a:xfrm>
            <a:off x="965160" y="5686560"/>
            <a:ext cx="78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②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上半场和下半场的得分我们都不知道，那怎样设未知数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9" name="Text Box 43"/>
          <p:cNvSpPr/>
          <p:nvPr/>
        </p:nvSpPr>
        <p:spPr>
          <a:xfrm>
            <a:off x="4262400" y="13874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上半场得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半场得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0" name="TextBox 136"/>
          <p:cNvSpPr/>
          <p:nvPr/>
        </p:nvSpPr>
        <p:spPr>
          <a:xfrm>
            <a:off x="971640" y="6043680"/>
            <a:ext cx="78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请你依据等量关系列方程并解答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51" name="组合 21512"/>
          <p:cNvGrpSpPr/>
          <p:nvPr/>
        </p:nvGrpSpPr>
        <p:grpSpPr>
          <a:xfrm>
            <a:off x="71280" y="2214720"/>
            <a:ext cx="5786640" cy="2585160"/>
            <a:chOff x="71280" y="2214720"/>
            <a:chExt cx="5786640" cy="2585160"/>
          </a:xfrm>
        </p:grpSpPr>
        <p:grpSp>
          <p:nvGrpSpPr>
            <p:cNvPr id="1552" name="组合 21513"/>
            <p:cNvGrpSpPr/>
            <p:nvPr/>
          </p:nvGrpSpPr>
          <p:grpSpPr>
            <a:xfrm>
              <a:off x="71280" y="2697120"/>
              <a:ext cx="5786640" cy="2102760"/>
              <a:chOff x="71280" y="2697120"/>
              <a:chExt cx="5786640" cy="2102760"/>
            </a:xfrm>
          </p:grpSpPr>
          <p:grpSp>
            <p:nvGrpSpPr>
              <p:cNvPr id="1553" name="组合 21514"/>
              <p:cNvGrpSpPr/>
              <p:nvPr/>
            </p:nvGrpSpPr>
            <p:grpSpPr>
              <a:xfrm>
                <a:off x="71280" y="2697120"/>
                <a:ext cx="4884480" cy="2102760"/>
                <a:chOff x="71280" y="2697120"/>
                <a:chExt cx="4884480" cy="2102760"/>
              </a:xfrm>
            </p:grpSpPr>
            <p:grpSp>
              <p:nvGrpSpPr>
                <p:cNvPr id="1554" name="组合 21515"/>
                <p:cNvGrpSpPr/>
                <p:nvPr/>
              </p:nvGrpSpPr>
              <p:grpSpPr>
                <a:xfrm>
                  <a:off x="71280" y="2697120"/>
                  <a:ext cx="4884480" cy="2102760"/>
                  <a:chOff x="71280" y="2697120"/>
                  <a:chExt cx="4884480" cy="2102760"/>
                </a:xfrm>
              </p:grpSpPr>
              <p:pic>
                <p:nvPicPr>
                  <p:cNvPr id="1555" name="右大括号 94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633320" y="3046320"/>
                    <a:ext cx="29502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6" name="直接连接符 61"/>
                  <p:cNvSpPr/>
                  <p:nvPr/>
                </p:nvSpPr>
                <p:spPr>
                  <a:xfrm>
                    <a:off x="1631520" y="3411360"/>
                    <a:ext cx="1477800" cy="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57" name="直接连接符 61"/>
                  <p:cNvSpPr/>
                  <p:nvPr/>
                </p:nvSpPr>
                <p:spPr>
                  <a:xfrm>
                    <a:off x="3109680" y="3411360"/>
                    <a:ext cx="1477440" cy="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58" name="TextBox 34"/>
                  <p:cNvSpPr/>
                  <p:nvPr/>
                </p:nvSpPr>
                <p:spPr>
                  <a:xfrm>
                    <a:off x="71280" y="3143160"/>
                    <a:ext cx="2092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上半场得分：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59" name="TextBox 34"/>
                  <p:cNvSpPr/>
                  <p:nvPr/>
                </p:nvSpPr>
                <p:spPr>
                  <a:xfrm>
                    <a:off x="71280" y="3900600"/>
                    <a:ext cx="2234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下半场得分：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1560" name="组合 76"/>
                  <p:cNvGrpSpPr/>
                  <p:nvPr/>
                </p:nvGrpSpPr>
                <p:grpSpPr>
                  <a:xfrm>
                    <a:off x="1628640" y="4179960"/>
                    <a:ext cx="1478880" cy="58680"/>
                    <a:chOff x="1628640" y="4179960"/>
                    <a:chExt cx="1478880" cy="58680"/>
                  </a:xfrm>
                </p:grpSpPr>
                <p:sp>
                  <p:nvSpPr>
                    <p:cNvPr id="1561" name="直接连接符 61"/>
                    <p:cNvSpPr/>
                    <p:nvPr/>
                  </p:nvSpPr>
                  <p:spPr>
                    <a:xfrm>
                      <a:off x="1628640" y="4224600"/>
                      <a:ext cx="147816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62" name="直接连接符 62"/>
                    <p:cNvSpPr/>
                    <p:nvPr/>
                  </p:nvSpPr>
                  <p:spPr>
                    <a:xfrm flipH="1">
                      <a:off x="1628640" y="417996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63" name="直接连接符 69"/>
                    <p:cNvSpPr/>
                    <p:nvPr/>
                  </p:nvSpPr>
                  <p:spPr>
                    <a:xfrm flipH="1">
                      <a:off x="3106800" y="418068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4" name="TextBox 74"/>
                  <p:cNvSpPr/>
                  <p:nvPr/>
                </p:nvSpPr>
                <p:spPr>
                  <a:xfrm>
                    <a:off x="2687400" y="2697120"/>
                    <a:ext cx="914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“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”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pic>
                <p:nvPicPr>
                  <p:cNvPr id="1565" name="右大括号 1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7320" y="3262320"/>
                    <a:ext cx="29844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66" name="TextBox 74"/>
                  <p:cNvSpPr/>
                  <p:nvPr/>
                </p:nvSpPr>
                <p:spPr>
                  <a:xfrm>
                    <a:off x="2782800" y="3554280"/>
                    <a:ext cx="914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？分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67" name="TextBox 74"/>
                  <p:cNvSpPr/>
                  <p:nvPr/>
                </p:nvSpPr>
                <p:spPr>
                  <a:xfrm>
                    <a:off x="2053800" y="4340160"/>
                    <a:ext cx="914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？分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1568" name="组合 21529"/>
                  <p:cNvGrpSpPr/>
                  <p:nvPr/>
                </p:nvGrpSpPr>
                <p:grpSpPr>
                  <a:xfrm>
                    <a:off x="2227320" y="3484440"/>
                    <a:ext cx="502920" cy="788400"/>
                    <a:chOff x="2227320" y="3484440"/>
                    <a:chExt cx="502920" cy="788400"/>
                  </a:xfrm>
                </p:grpSpPr>
                <p:sp>
                  <p:nvSpPr>
                    <p:cNvPr id="1569" name="文本框 21530"/>
                    <p:cNvSpPr/>
                    <p:nvPr/>
                  </p:nvSpPr>
                  <p:spPr>
                    <a:xfrm>
                      <a:off x="2233440" y="3740040"/>
                      <a:ext cx="496800" cy="532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2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70" name="文本框 21531"/>
                    <p:cNvSpPr/>
                    <p:nvPr/>
                  </p:nvSpPr>
                  <p:spPr>
                    <a:xfrm>
                      <a:off x="2227320" y="3484440"/>
                      <a:ext cx="354600" cy="532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71" name="直接连接符 21532"/>
                    <p:cNvSpPr/>
                    <p:nvPr/>
                  </p:nvSpPr>
                  <p:spPr>
                    <a:xfrm>
                      <a:off x="2275560" y="3800520"/>
                      <a:ext cx="1764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1572" name="右大括号 8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60680" y="3376440"/>
                  <a:ext cx="299052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3" name="右大括号 8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57440" y="4179960"/>
                  <a:ext cx="150336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4" name="右大括号 9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50960" y="3894120"/>
                  <a:ext cx="151776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75" name="组合 75"/>
              <p:cNvGrpSpPr/>
              <p:nvPr/>
            </p:nvGrpSpPr>
            <p:grpSpPr>
              <a:xfrm>
                <a:off x="1652760" y="3340080"/>
                <a:ext cx="3000240" cy="57240"/>
                <a:chOff x="1652760" y="3340080"/>
                <a:chExt cx="3000240" cy="57240"/>
              </a:xfrm>
            </p:grpSpPr>
            <p:sp>
              <p:nvSpPr>
                <p:cNvPr id="1576" name="直接连接符 31"/>
                <p:cNvSpPr/>
                <p:nvPr/>
              </p:nvSpPr>
              <p:spPr>
                <a:xfrm flipH="1">
                  <a:off x="1652760" y="3340080"/>
                  <a:ext cx="720" cy="5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77" name="直接连接符 41"/>
                <p:cNvSpPr/>
                <p:nvPr/>
              </p:nvSpPr>
              <p:spPr>
                <a:xfrm flipH="1">
                  <a:off x="3152520" y="3340080"/>
                  <a:ext cx="720" cy="5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78" name="直接连接符 48"/>
                <p:cNvSpPr/>
                <p:nvPr/>
              </p:nvSpPr>
              <p:spPr>
                <a:xfrm flipH="1">
                  <a:off x="4652280" y="3340080"/>
                  <a:ext cx="720" cy="5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579" name="TextBox 74"/>
              <p:cNvSpPr/>
              <p:nvPr/>
            </p:nvSpPr>
            <p:spPr>
              <a:xfrm>
                <a:off x="4929120" y="3532320"/>
                <a:ext cx="9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2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分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80" name="TextBox 42"/>
            <p:cNvSpPr/>
            <p:nvPr/>
          </p:nvSpPr>
          <p:spPr>
            <a:xfrm>
              <a:off x="214200" y="221472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81" name="组合 21542"/>
          <p:cNvGrpSpPr/>
          <p:nvPr/>
        </p:nvGrpSpPr>
        <p:grpSpPr>
          <a:xfrm>
            <a:off x="5292720" y="1628640"/>
            <a:ext cx="4071960" cy="4082040"/>
            <a:chOff x="5292720" y="1628640"/>
            <a:chExt cx="4071960" cy="4082040"/>
          </a:xfrm>
        </p:grpSpPr>
        <p:sp>
          <p:nvSpPr>
            <p:cNvPr id="1582" name="TextBox 28"/>
            <p:cNvSpPr/>
            <p:nvPr/>
          </p:nvSpPr>
          <p:spPr>
            <a:xfrm>
              <a:off x="5292720" y="1628640"/>
              <a:ext cx="40719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上半场得了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分，则下半场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得了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分。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2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×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分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83" name="组合 21544"/>
            <p:cNvGrpSpPr/>
            <p:nvPr/>
          </p:nvGrpSpPr>
          <p:grpSpPr>
            <a:xfrm>
              <a:off x="6354720" y="2166840"/>
              <a:ext cx="511200" cy="815040"/>
              <a:chOff x="6354720" y="2166840"/>
              <a:chExt cx="511200" cy="815040"/>
            </a:xfrm>
          </p:grpSpPr>
          <p:sp>
            <p:nvSpPr>
              <p:cNvPr id="1584" name="文本框 21545"/>
              <p:cNvSpPr/>
              <p:nvPr/>
            </p:nvSpPr>
            <p:spPr>
              <a:xfrm>
                <a:off x="6361200" y="2522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5" name="文本框 21546"/>
              <p:cNvSpPr/>
              <p:nvPr/>
            </p:nvSpPr>
            <p:spPr>
              <a:xfrm>
                <a:off x="6354720" y="2166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6" name="直接连接符 21547"/>
              <p:cNvSpPr/>
              <p:nvPr/>
            </p:nvSpPr>
            <p:spPr>
              <a:xfrm>
                <a:off x="6370560" y="2585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87" name="组合 21548"/>
            <p:cNvGrpSpPr/>
            <p:nvPr/>
          </p:nvGrpSpPr>
          <p:grpSpPr>
            <a:xfrm>
              <a:off x="6189480" y="2709720"/>
              <a:ext cx="511200" cy="815040"/>
              <a:chOff x="6189480" y="2709720"/>
              <a:chExt cx="511200" cy="815040"/>
            </a:xfrm>
          </p:grpSpPr>
          <p:sp>
            <p:nvSpPr>
              <p:cNvPr id="1588" name="文本框 21549"/>
              <p:cNvSpPr/>
              <p:nvPr/>
            </p:nvSpPr>
            <p:spPr>
              <a:xfrm>
                <a:off x="6195960" y="3065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9" name="文本框 21550"/>
              <p:cNvSpPr/>
              <p:nvPr/>
            </p:nvSpPr>
            <p:spPr>
              <a:xfrm>
                <a:off x="6189480" y="2709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0" name="直接连接符 21551"/>
              <p:cNvSpPr/>
              <p:nvPr/>
            </p:nvSpPr>
            <p:spPr>
              <a:xfrm>
                <a:off x="6205320" y="3128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91" name="组合 21552"/>
            <p:cNvGrpSpPr/>
            <p:nvPr/>
          </p:nvGrpSpPr>
          <p:grpSpPr>
            <a:xfrm>
              <a:off x="6200640" y="3295440"/>
              <a:ext cx="511200" cy="815040"/>
              <a:chOff x="6200640" y="3295440"/>
              <a:chExt cx="511200" cy="815040"/>
            </a:xfrm>
          </p:grpSpPr>
          <p:sp>
            <p:nvSpPr>
              <p:cNvPr id="1592" name="文本框 21553"/>
              <p:cNvSpPr/>
              <p:nvPr/>
            </p:nvSpPr>
            <p:spPr>
              <a:xfrm>
                <a:off x="6207120" y="3650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3" name="文本框 21554"/>
              <p:cNvSpPr/>
              <p:nvPr/>
            </p:nvSpPr>
            <p:spPr>
              <a:xfrm>
                <a:off x="6200640" y="3295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4" name="直接连接符 21555"/>
              <p:cNvSpPr/>
              <p:nvPr/>
            </p:nvSpPr>
            <p:spPr>
              <a:xfrm>
                <a:off x="6216480" y="37144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95" name="组合 21556"/>
            <p:cNvGrpSpPr/>
            <p:nvPr/>
          </p:nvGrpSpPr>
          <p:grpSpPr>
            <a:xfrm>
              <a:off x="7451640" y="3798720"/>
              <a:ext cx="511200" cy="815040"/>
              <a:chOff x="7451640" y="3798720"/>
              <a:chExt cx="511200" cy="815040"/>
            </a:xfrm>
          </p:grpSpPr>
          <p:sp>
            <p:nvSpPr>
              <p:cNvPr id="1596" name="文本框 21557"/>
              <p:cNvSpPr/>
              <p:nvPr/>
            </p:nvSpPr>
            <p:spPr>
              <a:xfrm>
                <a:off x="7458120" y="4154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7" name="文本框 21558"/>
              <p:cNvSpPr/>
              <p:nvPr/>
            </p:nvSpPr>
            <p:spPr>
              <a:xfrm>
                <a:off x="7451640" y="3798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8" name="直接连接符 21559"/>
              <p:cNvSpPr/>
              <p:nvPr/>
            </p:nvSpPr>
            <p:spPr>
              <a:xfrm>
                <a:off x="7467480" y="4217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99" name="组合 21560"/>
            <p:cNvGrpSpPr/>
            <p:nvPr/>
          </p:nvGrpSpPr>
          <p:grpSpPr>
            <a:xfrm>
              <a:off x="6869160" y="4895640"/>
              <a:ext cx="511200" cy="815040"/>
              <a:chOff x="6869160" y="4895640"/>
              <a:chExt cx="511200" cy="815040"/>
            </a:xfrm>
          </p:grpSpPr>
          <p:sp>
            <p:nvSpPr>
              <p:cNvPr id="1600" name="文本框 21561"/>
              <p:cNvSpPr/>
              <p:nvPr/>
            </p:nvSpPr>
            <p:spPr>
              <a:xfrm>
                <a:off x="6875640" y="5250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1" name="文本框 21562"/>
              <p:cNvSpPr/>
              <p:nvPr/>
            </p:nvSpPr>
            <p:spPr>
              <a:xfrm>
                <a:off x="6869160" y="4895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2" name="直接连接符 21563"/>
              <p:cNvSpPr/>
              <p:nvPr/>
            </p:nvSpPr>
            <p:spPr>
              <a:xfrm>
                <a:off x="6885000" y="5314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03" name="矩形 21564"/>
          <p:cNvSpPr/>
          <p:nvPr/>
        </p:nvSpPr>
        <p:spPr>
          <a:xfrm>
            <a:off x="18720" y="4503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4" name="矩形 21565"/>
          <p:cNvSpPr/>
          <p:nvPr/>
        </p:nvSpPr>
        <p:spPr>
          <a:xfrm>
            <a:off x="234720" y="4719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6" name="Rectangle 2"/>
          <p:cNvSpPr/>
          <p:nvPr/>
        </p:nvSpPr>
        <p:spPr>
          <a:xfrm>
            <a:off x="357120" y="141300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7" name="TextBox 28"/>
          <p:cNvSpPr/>
          <p:nvPr/>
        </p:nvSpPr>
        <p:spPr>
          <a:xfrm>
            <a:off x="5156280" y="2265480"/>
            <a:ext cx="407196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解：设下半场得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，则上半场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得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。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 ÷3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4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8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分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8" name="TextBox 135"/>
          <p:cNvSpPr/>
          <p:nvPr/>
        </p:nvSpPr>
        <p:spPr>
          <a:xfrm>
            <a:off x="114480" y="525132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9" name="TextBox 136"/>
          <p:cNvSpPr/>
          <p:nvPr/>
        </p:nvSpPr>
        <p:spPr>
          <a:xfrm>
            <a:off x="826920" y="5276880"/>
            <a:ext cx="78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如果设下半场得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，那么我们把谁看作是单位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0" name="TextBox 136"/>
          <p:cNvSpPr/>
          <p:nvPr/>
        </p:nvSpPr>
        <p:spPr>
          <a:xfrm>
            <a:off x="826920" y="568152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②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如果把下半场得分看作单位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那么上半场得分是下半场的几倍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1" name="TextBox 136"/>
          <p:cNvSpPr/>
          <p:nvPr/>
        </p:nvSpPr>
        <p:spPr>
          <a:xfrm>
            <a:off x="826920" y="611496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应该怎样设未知数？说说你列的方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2" name="Text Box 43"/>
          <p:cNvSpPr/>
          <p:nvPr/>
        </p:nvSpPr>
        <p:spPr>
          <a:xfrm>
            <a:off x="4427640" y="1844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上半场得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半场得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13" name="组合 22537"/>
          <p:cNvGrpSpPr/>
          <p:nvPr/>
        </p:nvGrpSpPr>
        <p:grpSpPr>
          <a:xfrm>
            <a:off x="71280" y="2214720"/>
            <a:ext cx="5786640" cy="2847240"/>
            <a:chOff x="71280" y="2214720"/>
            <a:chExt cx="5786640" cy="2847240"/>
          </a:xfrm>
        </p:grpSpPr>
        <p:grpSp>
          <p:nvGrpSpPr>
            <p:cNvPr id="1614" name="组合 22538"/>
            <p:cNvGrpSpPr/>
            <p:nvPr/>
          </p:nvGrpSpPr>
          <p:grpSpPr>
            <a:xfrm>
              <a:off x="71280" y="2214720"/>
              <a:ext cx="5786640" cy="2847240"/>
              <a:chOff x="71280" y="2214720"/>
              <a:chExt cx="5786640" cy="2847240"/>
            </a:xfrm>
          </p:grpSpPr>
          <p:grpSp>
            <p:nvGrpSpPr>
              <p:cNvPr id="1615" name="组合 22539"/>
              <p:cNvGrpSpPr/>
              <p:nvPr/>
            </p:nvGrpSpPr>
            <p:grpSpPr>
              <a:xfrm>
                <a:off x="71280" y="2214720"/>
                <a:ext cx="5786640" cy="2847240"/>
                <a:chOff x="71280" y="2214720"/>
                <a:chExt cx="5786640" cy="2847240"/>
              </a:xfrm>
            </p:grpSpPr>
            <p:sp>
              <p:nvSpPr>
                <p:cNvPr id="1616" name="TextBox 34"/>
                <p:cNvSpPr/>
                <p:nvPr/>
              </p:nvSpPr>
              <p:spPr>
                <a:xfrm>
                  <a:off x="214200" y="2214720"/>
                  <a:ext cx="1285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预设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：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17" name="Rectangle 39"/>
                <p:cNvSpPr/>
                <p:nvPr/>
              </p:nvSpPr>
              <p:spPr>
                <a:xfrm>
                  <a:off x="2138760" y="2849400"/>
                  <a:ext cx="49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“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618" name="组合 22542"/>
                <p:cNvGrpSpPr/>
                <p:nvPr/>
              </p:nvGrpSpPr>
              <p:grpSpPr>
                <a:xfrm>
                  <a:off x="71280" y="3184560"/>
                  <a:ext cx="5786640" cy="1877400"/>
                  <a:chOff x="71280" y="3184560"/>
                  <a:chExt cx="5786640" cy="1877400"/>
                </a:xfrm>
              </p:grpSpPr>
              <p:pic>
                <p:nvPicPr>
                  <p:cNvPr id="1619" name="右大括号 58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665360" y="4327560"/>
                    <a:ext cx="29811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20" name="右大括号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2120" y="3997440"/>
                    <a:ext cx="29890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621" name="组合 75"/>
                  <p:cNvGrpSpPr/>
                  <p:nvPr/>
                </p:nvGrpSpPr>
                <p:grpSpPr>
                  <a:xfrm>
                    <a:off x="1652760" y="4290840"/>
                    <a:ext cx="3001680" cy="57240"/>
                    <a:chOff x="1652760" y="4290840"/>
                    <a:chExt cx="3001680" cy="57240"/>
                  </a:xfrm>
                </p:grpSpPr>
                <p:sp>
                  <p:nvSpPr>
                    <p:cNvPr id="1622" name="直接连接符 31"/>
                    <p:cNvSpPr/>
                    <p:nvPr/>
                  </p:nvSpPr>
                  <p:spPr>
                    <a:xfrm flipH="1">
                      <a:off x="1652760" y="4290840"/>
                      <a:ext cx="720" cy="57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23" name="直接连接符 41"/>
                    <p:cNvSpPr/>
                    <p:nvPr/>
                  </p:nvSpPr>
                  <p:spPr>
                    <a:xfrm flipH="1">
                      <a:off x="3153240" y="4290840"/>
                      <a:ext cx="720" cy="57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24" name="直接连接符 48"/>
                    <p:cNvSpPr/>
                    <p:nvPr/>
                  </p:nvSpPr>
                  <p:spPr>
                    <a:xfrm flipH="1">
                      <a:off x="4653720" y="4290840"/>
                      <a:ext cx="720" cy="57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5" name="TextBox 34"/>
                  <p:cNvSpPr/>
                  <p:nvPr/>
                </p:nvSpPr>
                <p:spPr>
                  <a:xfrm>
                    <a:off x="71280" y="4111560"/>
                    <a:ext cx="234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上半场得分：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26" name="TextBox 34"/>
                  <p:cNvSpPr/>
                  <p:nvPr/>
                </p:nvSpPr>
                <p:spPr>
                  <a:xfrm>
                    <a:off x="71280" y="3184560"/>
                    <a:ext cx="234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下半场得分：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1627" name="组合 76"/>
                  <p:cNvGrpSpPr/>
                  <p:nvPr/>
                </p:nvGrpSpPr>
                <p:grpSpPr>
                  <a:xfrm>
                    <a:off x="1652760" y="3433680"/>
                    <a:ext cx="1501560" cy="58680"/>
                    <a:chOff x="1652760" y="3433680"/>
                    <a:chExt cx="1501560" cy="58680"/>
                  </a:xfrm>
                </p:grpSpPr>
                <p:sp>
                  <p:nvSpPr>
                    <p:cNvPr id="1628" name="直接连接符 61"/>
                    <p:cNvSpPr/>
                    <p:nvPr/>
                  </p:nvSpPr>
                  <p:spPr>
                    <a:xfrm>
                      <a:off x="1652760" y="3478320"/>
                      <a:ext cx="15008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29" name="直接连接符 62"/>
                    <p:cNvSpPr/>
                    <p:nvPr/>
                  </p:nvSpPr>
                  <p:spPr>
                    <a:xfrm flipH="1">
                      <a:off x="1652760" y="343368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30" name="直接连接符 69"/>
                    <p:cNvSpPr/>
                    <p:nvPr/>
                  </p:nvSpPr>
                  <p:spPr>
                    <a:xfrm flipH="1">
                      <a:off x="3153600" y="343440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631" name="右大括号 7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7520" y="3338640"/>
                    <a:ext cx="303120" cy="98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2" name="TextBox 74"/>
                  <p:cNvSpPr/>
                  <p:nvPr/>
                </p:nvSpPr>
                <p:spPr>
                  <a:xfrm>
                    <a:off x="4929120" y="3630600"/>
                    <a:ext cx="928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2</a:t>
                    </a: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分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3" name="TextBox 74"/>
                  <p:cNvSpPr/>
                  <p:nvPr/>
                </p:nvSpPr>
                <p:spPr>
                  <a:xfrm>
                    <a:off x="2714760" y="4602240"/>
                    <a:ext cx="928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？分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4" name="TextBox 74"/>
                  <p:cNvSpPr/>
                  <p:nvPr/>
                </p:nvSpPr>
                <p:spPr>
                  <a:xfrm>
                    <a:off x="2084400" y="3594240"/>
                    <a:ext cx="928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？分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5" name="Text Box 45"/>
                  <p:cNvSpPr/>
                  <p:nvPr/>
                </p:nvSpPr>
                <p:spPr>
                  <a:xfrm>
                    <a:off x="2906640" y="3660840"/>
                    <a:ext cx="863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倍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pic>
            <p:nvPicPr>
              <p:cNvPr id="1636" name="右大括号 59" descr=""/>
              <p:cNvPicPr/>
              <p:nvPr/>
            </p:nvPicPr>
            <p:blipFill>
              <a:blip r:embed="rId4"/>
              <a:stretch/>
            </p:blipFill>
            <p:spPr>
              <a:xfrm>
                <a:off x="1646280" y="3129120"/>
                <a:ext cx="152388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7" name="右大括号 61" descr=""/>
              <p:cNvPicPr/>
              <p:nvPr/>
            </p:nvPicPr>
            <p:blipFill>
              <a:blip r:embed="rId5"/>
              <a:stretch/>
            </p:blipFill>
            <p:spPr>
              <a:xfrm>
                <a:off x="1654200" y="3408480"/>
                <a:ext cx="1509840" cy="36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8" name="直接连接符 61"/>
              <p:cNvSpPr/>
              <p:nvPr/>
            </p:nvSpPr>
            <p:spPr>
              <a:xfrm>
                <a:off x="1655640" y="4362480"/>
                <a:ext cx="15004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39" name="直接连接符 61"/>
            <p:cNvSpPr/>
            <p:nvPr/>
          </p:nvSpPr>
          <p:spPr>
            <a:xfrm>
              <a:off x="3156120" y="4362480"/>
              <a:ext cx="150012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40" name="矩形 22564"/>
          <p:cNvSpPr/>
          <p:nvPr/>
        </p:nvSpPr>
        <p:spPr>
          <a:xfrm>
            <a:off x="18720" y="4503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1" name="矩形 22565"/>
          <p:cNvSpPr/>
          <p:nvPr/>
        </p:nvSpPr>
        <p:spPr>
          <a:xfrm>
            <a:off x="234720" y="4719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3" name="TextBox 135"/>
          <p:cNvSpPr/>
          <p:nvPr/>
        </p:nvSpPr>
        <p:spPr>
          <a:xfrm>
            <a:off x="214200" y="60627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4" name="TextBox 136"/>
          <p:cNvSpPr/>
          <p:nvPr/>
        </p:nvSpPr>
        <p:spPr>
          <a:xfrm>
            <a:off x="906480" y="6083280"/>
            <a:ext cx="80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我们依据题意画出了相同的线段图，找到了相同的等量关系，为什么同学们列出的方程不一样呢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5" name="Text Box 43"/>
          <p:cNvSpPr/>
          <p:nvPr/>
        </p:nvSpPr>
        <p:spPr>
          <a:xfrm>
            <a:off x="4718160" y="1947960"/>
            <a:ext cx="48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（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上半场得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半场得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6" name="Text Box 43"/>
          <p:cNvSpPr/>
          <p:nvPr/>
        </p:nvSpPr>
        <p:spPr>
          <a:xfrm>
            <a:off x="504720" y="1927080"/>
            <a:ext cx="50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上半场得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半场得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47" name="组合 23558"/>
          <p:cNvGrpSpPr/>
          <p:nvPr/>
        </p:nvGrpSpPr>
        <p:grpSpPr>
          <a:xfrm>
            <a:off x="755640" y="2182680"/>
            <a:ext cx="4071960" cy="4082040"/>
            <a:chOff x="755640" y="2182680"/>
            <a:chExt cx="4071960" cy="4082040"/>
          </a:xfrm>
        </p:grpSpPr>
        <p:sp>
          <p:nvSpPr>
            <p:cNvPr id="1648" name="TextBox 28"/>
            <p:cNvSpPr/>
            <p:nvPr/>
          </p:nvSpPr>
          <p:spPr>
            <a:xfrm>
              <a:off x="755640" y="2182680"/>
              <a:ext cx="40719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上半场得了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分，则下半场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得了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分。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2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×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分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49" name="组合 23560"/>
            <p:cNvGrpSpPr/>
            <p:nvPr/>
          </p:nvGrpSpPr>
          <p:grpSpPr>
            <a:xfrm>
              <a:off x="1817640" y="2720880"/>
              <a:ext cx="511200" cy="815040"/>
              <a:chOff x="1817640" y="2720880"/>
              <a:chExt cx="511200" cy="815040"/>
            </a:xfrm>
          </p:grpSpPr>
          <p:sp>
            <p:nvSpPr>
              <p:cNvPr id="1650" name="文本框 23561"/>
              <p:cNvSpPr/>
              <p:nvPr/>
            </p:nvSpPr>
            <p:spPr>
              <a:xfrm>
                <a:off x="1824120" y="3076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1" name="文本框 23562"/>
              <p:cNvSpPr/>
              <p:nvPr/>
            </p:nvSpPr>
            <p:spPr>
              <a:xfrm>
                <a:off x="1817640" y="2720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2" name="直接连接符 23563"/>
              <p:cNvSpPr/>
              <p:nvPr/>
            </p:nvSpPr>
            <p:spPr>
              <a:xfrm>
                <a:off x="1833480" y="31399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53" name="组合 23564"/>
            <p:cNvGrpSpPr/>
            <p:nvPr/>
          </p:nvGrpSpPr>
          <p:grpSpPr>
            <a:xfrm>
              <a:off x="1652400" y="3263760"/>
              <a:ext cx="511200" cy="815040"/>
              <a:chOff x="1652400" y="3263760"/>
              <a:chExt cx="511200" cy="815040"/>
            </a:xfrm>
          </p:grpSpPr>
          <p:sp>
            <p:nvSpPr>
              <p:cNvPr id="1654" name="文本框 23565"/>
              <p:cNvSpPr/>
              <p:nvPr/>
            </p:nvSpPr>
            <p:spPr>
              <a:xfrm>
                <a:off x="1658880" y="3619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5" name="文本框 23566"/>
              <p:cNvSpPr/>
              <p:nvPr/>
            </p:nvSpPr>
            <p:spPr>
              <a:xfrm>
                <a:off x="1652400" y="3263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6" name="直接连接符 23567"/>
              <p:cNvSpPr/>
              <p:nvPr/>
            </p:nvSpPr>
            <p:spPr>
              <a:xfrm>
                <a:off x="1668240" y="36828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57" name="组合 23568"/>
            <p:cNvGrpSpPr/>
            <p:nvPr/>
          </p:nvGrpSpPr>
          <p:grpSpPr>
            <a:xfrm>
              <a:off x="1663560" y="3849480"/>
              <a:ext cx="511200" cy="815040"/>
              <a:chOff x="1663560" y="3849480"/>
              <a:chExt cx="511200" cy="815040"/>
            </a:xfrm>
          </p:grpSpPr>
          <p:sp>
            <p:nvSpPr>
              <p:cNvPr id="1658" name="文本框 23569"/>
              <p:cNvSpPr/>
              <p:nvPr/>
            </p:nvSpPr>
            <p:spPr>
              <a:xfrm>
                <a:off x="1670040" y="4204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9" name="文本框 23570"/>
              <p:cNvSpPr/>
              <p:nvPr/>
            </p:nvSpPr>
            <p:spPr>
              <a:xfrm>
                <a:off x="1663560" y="3849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0" name="直接连接符 23571"/>
              <p:cNvSpPr/>
              <p:nvPr/>
            </p:nvSpPr>
            <p:spPr>
              <a:xfrm>
                <a:off x="1679400" y="42685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61" name="组合 23572"/>
            <p:cNvGrpSpPr/>
            <p:nvPr/>
          </p:nvGrpSpPr>
          <p:grpSpPr>
            <a:xfrm>
              <a:off x="2914560" y="4352760"/>
              <a:ext cx="511200" cy="815040"/>
              <a:chOff x="2914560" y="4352760"/>
              <a:chExt cx="511200" cy="815040"/>
            </a:xfrm>
          </p:grpSpPr>
          <p:sp>
            <p:nvSpPr>
              <p:cNvPr id="1662" name="文本框 23573"/>
              <p:cNvSpPr/>
              <p:nvPr/>
            </p:nvSpPr>
            <p:spPr>
              <a:xfrm>
                <a:off x="2921040" y="4708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3" name="文本框 23574"/>
              <p:cNvSpPr/>
              <p:nvPr/>
            </p:nvSpPr>
            <p:spPr>
              <a:xfrm>
                <a:off x="2914560" y="4352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4" name="直接连接符 23575"/>
              <p:cNvSpPr/>
              <p:nvPr/>
            </p:nvSpPr>
            <p:spPr>
              <a:xfrm>
                <a:off x="2930400" y="47718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65" name="组合 23576"/>
            <p:cNvGrpSpPr/>
            <p:nvPr/>
          </p:nvGrpSpPr>
          <p:grpSpPr>
            <a:xfrm>
              <a:off x="2332080" y="5449680"/>
              <a:ext cx="511200" cy="815040"/>
              <a:chOff x="2332080" y="5449680"/>
              <a:chExt cx="511200" cy="815040"/>
            </a:xfrm>
          </p:grpSpPr>
          <p:sp>
            <p:nvSpPr>
              <p:cNvPr id="1666" name="文本框 23577"/>
              <p:cNvSpPr/>
              <p:nvPr/>
            </p:nvSpPr>
            <p:spPr>
              <a:xfrm>
                <a:off x="2338560" y="5805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7" name="文本框 23578"/>
              <p:cNvSpPr/>
              <p:nvPr/>
            </p:nvSpPr>
            <p:spPr>
              <a:xfrm>
                <a:off x="2332080" y="5449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8" name="直接连接符 23579"/>
              <p:cNvSpPr/>
              <p:nvPr/>
            </p:nvSpPr>
            <p:spPr>
              <a:xfrm>
                <a:off x="2347920" y="58687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69" name="TextBox 28"/>
          <p:cNvSpPr/>
          <p:nvPr/>
        </p:nvSpPr>
        <p:spPr>
          <a:xfrm>
            <a:off x="4981680" y="2355840"/>
            <a:ext cx="407196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解：设下半场得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分，则上半场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得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分。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 ÷3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x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4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8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分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0" name="Rectangle 2"/>
          <p:cNvSpPr/>
          <p:nvPr/>
        </p:nvSpPr>
        <p:spPr>
          <a:xfrm>
            <a:off x="357120" y="141300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1" name="矩形 23582"/>
          <p:cNvSpPr/>
          <p:nvPr/>
        </p:nvSpPr>
        <p:spPr>
          <a:xfrm>
            <a:off x="18720" y="4503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2" name="矩形 23583"/>
          <p:cNvSpPr/>
          <p:nvPr/>
        </p:nvSpPr>
        <p:spPr>
          <a:xfrm>
            <a:off x="234720" y="4719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4" name="Rectangle 2"/>
          <p:cNvSpPr/>
          <p:nvPr/>
        </p:nvSpPr>
        <p:spPr>
          <a:xfrm>
            <a:off x="357120" y="141300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三）回顾与反思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5" name="TextBox 8"/>
          <p:cNvSpPr/>
          <p:nvPr/>
        </p:nvSpPr>
        <p:spPr>
          <a:xfrm>
            <a:off x="214200" y="231624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6" name="TextBox 10"/>
          <p:cNvSpPr/>
          <p:nvPr/>
        </p:nvSpPr>
        <p:spPr>
          <a:xfrm>
            <a:off x="1000080" y="231300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刚才同学们列出了两个不同的方程，分别求出了上、下半场的得分，那么对不对呢？可以怎样检验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77" name="组合 24581"/>
          <p:cNvGrpSpPr/>
          <p:nvPr/>
        </p:nvGrpSpPr>
        <p:grpSpPr>
          <a:xfrm>
            <a:off x="104760" y="3357720"/>
            <a:ext cx="4476240" cy="1359720"/>
            <a:chOff x="104760" y="3357720"/>
            <a:chExt cx="4476240" cy="1359720"/>
          </a:xfrm>
        </p:grpSpPr>
        <p:sp>
          <p:nvSpPr>
            <p:cNvPr id="1678" name="TextBox 12"/>
            <p:cNvSpPr/>
            <p:nvPr/>
          </p:nvSpPr>
          <p:spPr>
            <a:xfrm>
              <a:off x="104760" y="3357720"/>
              <a:ext cx="16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79" name="TextBox 14"/>
            <p:cNvSpPr/>
            <p:nvPr/>
          </p:nvSpPr>
          <p:spPr>
            <a:xfrm>
              <a:off x="223560" y="3773520"/>
              <a:ext cx="43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看看上、下半场的得分和是不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分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80" name="TextBox 25"/>
            <p:cNvSpPr/>
            <p:nvPr/>
          </p:nvSpPr>
          <p:spPr>
            <a:xfrm>
              <a:off x="652320" y="4257720"/>
              <a:ext cx="37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8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4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分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681" name="Object 26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1682" name="组合 24586"/>
          <p:cNvGrpSpPr/>
          <p:nvPr/>
        </p:nvGrpSpPr>
        <p:grpSpPr>
          <a:xfrm>
            <a:off x="4500720" y="3317760"/>
            <a:ext cx="4493160" cy="1651680"/>
            <a:chOff x="4500720" y="3317760"/>
            <a:chExt cx="4493160" cy="1651680"/>
          </a:xfrm>
        </p:grpSpPr>
        <p:sp>
          <p:nvSpPr>
            <p:cNvPr id="1683" name="TextBox 16"/>
            <p:cNvSpPr/>
            <p:nvPr/>
          </p:nvSpPr>
          <p:spPr>
            <a:xfrm>
              <a:off x="4500720" y="331776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84" name="TextBox 20"/>
            <p:cNvSpPr/>
            <p:nvPr/>
          </p:nvSpPr>
          <p:spPr>
            <a:xfrm>
              <a:off x="4786200" y="3746160"/>
              <a:ext cx="39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看看下半场得分是不是上半场的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85" name="TextBox 21"/>
            <p:cNvSpPr/>
            <p:nvPr/>
          </p:nvSpPr>
          <p:spPr>
            <a:xfrm>
              <a:off x="5072040" y="4317840"/>
              <a:ext cx="37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4÷28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86" name="组合 24590"/>
            <p:cNvGrpSpPr/>
            <p:nvPr/>
          </p:nvGrpSpPr>
          <p:grpSpPr>
            <a:xfrm>
              <a:off x="8483400" y="3600360"/>
              <a:ext cx="510480" cy="815040"/>
              <a:chOff x="8483400" y="3600360"/>
              <a:chExt cx="510480" cy="815040"/>
            </a:xfrm>
          </p:grpSpPr>
          <p:sp>
            <p:nvSpPr>
              <p:cNvPr id="1687" name="文本框 24591"/>
              <p:cNvSpPr/>
              <p:nvPr/>
            </p:nvSpPr>
            <p:spPr>
              <a:xfrm>
                <a:off x="8489520" y="39556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8" name="文本框 24592"/>
              <p:cNvSpPr/>
              <p:nvPr/>
            </p:nvSpPr>
            <p:spPr>
              <a:xfrm>
                <a:off x="8483400" y="36003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9" name="直接连接符 24593"/>
              <p:cNvSpPr/>
              <p:nvPr/>
            </p:nvSpPr>
            <p:spPr>
              <a:xfrm>
                <a:off x="8498880" y="40194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90" name="组合 24594"/>
            <p:cNvGrpSpPr/>
            <p:nvPr/>
          </p:nvGrpSpPr>
          <p:grpSpPr>
            <a:xfrm>
              <a:off x="7513560" y="4154400"/>
              <a:ext cx="510480" cy="815040"/>
              <a:chOff x="7513560" y="4154400"/>
              <a:chExt cx="510480" cy="815040"/>
            </a:xfrm>
          </p:grpSpPr>
          <p:sp>
            <p:nvSpPr>
              <p:cNvPr id="1691" name="文本框 24595"/>
              <p:cNvSpPr/>
              <p:nvPr/>
            </p:nvSpPr>
            <p:spPr>
              <a:xfrm>
                <a:off x="7519680" y="450972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2" name="文本框 24596"/>
              <p:cNvSpPr/>
              <p:nvPr/>
            </p:nvSpPr>
            <p:spPr>
              <a:xfrm>
                <a:off x="7513560" y="41544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3" name="直接连接符 24597"/>
              <p:cNvSpPr/>
              <p:nvPr/>
            </p:nvSpPr>
            <p:spPr>
              <a:xfrm>
                <a:off x="7529040" y="45734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95" name="组合 25602"/>
          <p:cNvGrpSpPr/>
          <p:nvPr/>
        </p:nvGrpSpPr>
        <p:grpSpPr>
          <a:xfrm>
            <a:off x="46080" y="3417840"/>
            <a:ext cx="5715000" cy="2571120"/>
            <a:chOff x="46080" y="3417840"/>
            <a:chExt cx="5715000" cy="2571120"/>
          </a:xfrm>
        </p:grpSpPr>
        <p:grpSp>
          <p:nvGrpSpPr>
            <p:cNvPr id="1696" name="组合 25603"/>
            <p:cNvGrpSpPr/>
            <p:nvPr/>
          </p:nvGrpSpPr>
          <p:grpSpPr>
            <a:xfrm>
              <a:off x="46080" y="3417840"/>
              <a:ext cx="5715000" cy="2571120"/>
              <a:chOff x="46080" y="3417840"/>
              <a:chExt cx="5715000" cy="2571120"/>
            </a:xfrm>
          </p:grpSpPr>
          <p:sp>
            <p:nvSpPr>
              <p:cNvPr id="1697" name="Text Box 8"/>
              <p:cNvSpPr/>
              <p:nvPr/>
            </p:nvSpPr>
            <p:spPr>
              <a:xfrm>
                <a:off x="4608720" y="4630680"/>
                <a:ext cx="115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08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万台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8" name="直接连接符 90"/>
              <p:cNvSpPr/>
              <p:nvPr/>
            </p:nvSpPr>
            <p:spPr>
              <a:xfrm>
                <a:off x="3337200" y="5171760"/>
                <a:ext cx="0" cy="9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9" name="直接连接符 92"/>
              <p:cNvSpPr/>
              <p:nvPr/>
            </p:nvSpPr>
            <p:spPr>
              <a:xfrm flipH="1">
                <a:off x="2183040" y="5179680"/>
                <a:ext cx="1440" cy="9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00" name="直接连接符 93"/>
              <p:cNvSpPr/>
              <p:nvPr/>
            </p:nvSpPr>
            <p:spPr>
              <a:xfrm>
                <a:off x="3867480" y="5181480"/>
                <a:ext cx="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01" name="直接连接符 94"/>
              <p:cNvSpPr/>
              <p:nvPr/>
            </p:nvSpPr>
            <p:spPr>
              <a:xfrm flipH="1">
                <a:off x="2759400" y="5170320"/>
                <a:ext cx="1440" cy="9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02" name="组合 25609"/>
              <p:cNvGrpSpPr/>
              <p:nvPr/>
            </p:nvGrpSpPr>
            <p:grpSpPr>
              <a:xfrm>
                <a:off x="46080" y="3417840"/>
                <a:ext cx="4562640" cy="2571120"/>
                <a:chOff x="46080" y="3417840"/>
                <a:chExt cx="4562640" cy="2571120"/>
              </a:xfrm>
            </p:grpSpPr>
            <p:pic>
              <p:nvPicPr>
                <p:cNvPr id="1703" name="Object 1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641680" y="4429080"/>
                  <a:ext cx="274680" cy="57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4" name="TextBox 66"/>
                <p:cNvSpPr/>
                <p:nvPr/>
              </p:nvSpPr>
              <p:spPr>
                <a:xfrm>
                  <a:off x="2575080" y="3417840"/>
                  <a:ext cx="1035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“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05" name="TextBox 102"/>
                <p:cNvSpPr/>
                <p:nvPr/>
              </p:nvSpPr>
              <p:spPr>
                <a:xfrm>
                  <a:off x="46080" y="3836880"/>
                  <a:ext cx="248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下半年产量：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06" name="TextBox 103"/>
                <p:cNvSpPr/>
                <p:nvPr/>
              </p:nvSpPr>
              <p:spPr>
                <a:xfrm>
                  <a:off x="46080" y="4930560"/>
                  <a:ext cx="190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上半年产量：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07" name="TextBox 69"/>
                <p:cNvSpPr/>
                <p:nvPr/>
              </p:nvSpPr>
              <p:spPr>
                <a:xfrm>
                  <a:off x="2581560" y="5529240"/>
                  <a:ext cx="103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？万台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pic>
              <p:nvPicPr>
                <p:cNvPr id="1708" name="左大括号 7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98840" y="5383080"/>
                  <a:ext cx="2155680" cy="26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9" name="TextBox 51"/>
                <p:cNvSpPr/>
                <p:nvPr/>
              </p:nvSpPr>
              <p:spPr>
                <a:xfrm>
                  <a:off x="2859120" y="4343400"/>
                  <a:ext cx="104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？万台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710" name="组合 87"/>
                <p:cNvGrpSpPr/>
                <p:nvPr/>
              </p:nvGrpSpPr>
              <p:grpSpPr>
                <a:xfrm>
                  <a:off x="1668240" y="4114800"/>
                  <a:ext cx="2735640" cy="95040"/>
                  <a:chOff x="1668240" y="4114800"/>
                  <a:chExt cx="2735640" cy="95040"/>
                </a:xfrm>
              </p:grpSpPr>
              <p:sp>
                <p:nvSpPr>
                  <p:cNvPr id="1711" name="直接连接符 71"/>
                  <p:cNvSpPr/>
                  <p:nvPr/>
                </p:nvSpPr>
                <p:spPr>
                  <a:xfrm>
                    <a:off x="1669680" y="4209120"/>
                    <a:ext cx="2734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12" name="直接连接符 72"/>
                  <p:cNvSpPr/>
                  <p:nvPr/>
                </p:nvSpPr>
                <p:spPr>
                  <a:xfrm flipH="1">
                    <a:off x="1668240" y="411516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13" name="直接连接符 73"/>
                  <p:cNvSpPr/>
                  <p:nvPr/>
                </p:nvSpPr>
                <p:spPr>
                  <a:xfrm flipH="1">
                    <a:off x="3855600" y="411480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14" name="直接连接符 74"/>
                  <p:cNvSpPr/>
                  <p:nvPr/>
                </p:nvSpPr>
                <p:spPr>
                  <a:xfrm flipH="1">
                    <a:off x="2215080" y="411516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15" name="直接连接符 75"/>
                  <p:cNvSpPr/>
                  <p:nvPr/>
                </p:nvSpPr>
                <p:spPr>
                  <a:xfrm flipH="1">
                    <a:off x="2761920" y="411516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16" name="直接连接符 76"/>
                  <p:cNvSpPr/>
                  <p:nvPr/>
                </p:nvSpPr>
                <p:spPr>
                  <a:xfrm flipH="1">
                    <a:off x="4402440" y="411480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17" name="直接连接符 77"/>
                  <p:cNvSpPr/>
                  <p:nvPr/>
                </p:nvSpPr>
                <p:spPr>
                  <a:xfrm flipH="1">
                    <a:off x="3309120" y="4115160"/>
                    <a:ext cx="1080" cy="94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718" name="直接连接符 88"/>
                <p:cNvSpPr/>
                <p:nvPr/>
              </p:nvSpPr>
              <p:spPr>
                <a:xfrm>
                  <a:off x="1678320" y="5267160"/>
                  <a:ext cx="2206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19" name="左大括号 110"/>
                <p:cNvSpPr/>
                <p:nvPr/>
              </p:nvSpPr>
              <p:spPr>
                <a:xfrm rot="16200000">
                  <a:off x="2987280" y="3008880"/>
                  <a:ext cx="95040" cy="2735280"/>
                </a:xfrm>
                <a:custGeom>
                  <a:avLst/>
                  <a:gdLst>
                    <a:gd name="textAreaLeft" fmla="*/ 60840 w 95040"/>
                    <a:gd name="textAreaRight" fmla="*/ 95400 w 95040"/>
                    <a:gd name="textAreaTop" fmla="*/ 11160 h 2735280"/>
                    <a:gd name="textAreaBottom" fmla="*/ 2724120 h 273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145"/>
                        <a:pt x="10800" y="290"/>
                      </a:cubicBezTo>
                      <a:lnTo>
                        <a:pt x="10800" y="10510"/>
                      </a:lnTo>
                      <a:cubicBezTo>
                        <a:pt x="10800" y="10655"/>
                        <a:pt x="5400" y="10800"/>
                        <a:pt x="0" y="10800"/>
                      </a:cubicBezTo>
                      <a:cubicBezTo>
                        <a:pt x="5400" y="10800"/>
                        <a:pt x="10800" y="10945"/>
                        <a:pt x="10800" y="11090"/>
                      </a:cubicBezTo>
                      <a:lnTo>
                        <a:pt x="10800" y="21310"/>
                      </a:lnTo>
                      <a:cubicBezTo>
                        <a:pt x="10800" y="21455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20" name="AutoShape 32"/>
                <p:cNvSpPr/>
                <p:nvPr/>
              </p:nvSpPr>
              <p:spPr>
                <a:xfrm>
                  <a:off x="4465800" y="4257360"/>
                  <a:ext cx="142920" cy="1152720"/>
                </a:xfrm>
                <a:custGeom>
                  <a:avLst/>
                  <a:gdLst>
                    <a:gd name="textAreaLeft" fmla="*/ 0 w 142920"/>
                    <a:gd name="textAreaRight" fmla="*/ 51480 w 142920"/>
                    <a:gd name="textAreaTop" fmla="*/ 29880 h 1152720"/>
                    <a:gd name="textAreaBottom" fmla="*/ 1122840 h 1152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21" name="AutoShape 33"/>
                <p:cNvSpPr/>
                <p:nvPr/>
              </p:nvSpPr>
              <p:spPr>
                <a:xfrm rot="16200000">
                  <a:off x="2721960" y="3956400"/>
                  <a:ext cx="104760" cy="2144520"/>
                </a:xfrm>
                <a:custGeom>
                  <a:avLst/>
                  <a:gdLst>
                    <a:gd name="textAreaLeft" fmla="*/ 0 w 104760"/>
                    <a:gd name="textAreaRight" fmla="*/ 37800 w 104760"/>
                    <a:gd name="textAreaTop" fmla="*/ 55800 h 2144520"/>
                    <a:gd name="textAreaBottom" fmla="*/ 2088720 h 214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722" name="AutoShape 105"/>
            <p:cNvSpPr/>
            <p:nvPr/>
          </p:nvSpPr>
          <p:spPr>
            <a:xfrm rot="16200000">
              <a:off x="2941560" y="2566080"/>
              <a:ext cx="142920" cy="2664000"/>
            </a:xfrm>
            <a:custGeom>
              <a:avLst/>
              <a:gdLst>
                <a:gd name="textAreaLeft" fmla="*/ 0 w 142920"/>
                <a:gd name="textAreaRight" fmla="*/ 51480 w 142920"/>
                <a:gd name="textAreaTop" fmla="*/ 69120 h 2664000"/>
                <a:gd name="textAreaBottom" fmla="*/ 2594880 h 26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23" name="直接连接符 91"/>
            <p:cNvSpPr/>
            <p:nvPr/>
          </p:nvSpPr>
          <p:spPr>
            <a:xfrm flipH="1">
              <a:off x="1679760" y="5170320"/>
              <a:ext cx="1440" cy="954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24" name="Text Box 67"/>
          <p:cNvSpPr/>
          <p:nvPr/>
        </p:nvSpPr>
        <p:spPr>
          <a:xfrm>
            <a:off x="4680000" y="321300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上半年产量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半年产量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全年产量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5" name="Text Box 68"/>
          <p:cNvSpPr/>
          <p:nvPr/>
        </p:nvSpPr>
        <p:spPr>
          <a:xfrm>
            <a:off x="250920" y="3105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26" name="组合 25633"/>
          <p:cNvGrpSpPr/>
          <p:nvPr/>
        </p:nvGrpSpPr>
        <p:grpSpPr>
          <a:xfrm>
            <a:off x="611280" y="1557360"/>
            <a:ext cx="5761080" cy="1508760"/>
            <a:chOff x="611280" y="1557360"/>
            <a:chExt cx="5761080" cy="1508760"/>
          </a:xfrm>
        </p:grpSpPr>
        <p:sp>
          <p:nvSpPr>
            <p:cNvPr id="1727" name="Text Box 51"/>
            <p:cNvSpPr/>
            <p:nvPr/>
          </p:nvSpPr>
          <p:spPr>
            <a:xfrm>
              <a:off x="611280" y="1557360"/>
              <a:ext cx="5761080" cy="15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某电视厂去年全年生产电视机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0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万台，其中上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半年产量是下半年的     。这个电视机厂去年上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半年和下半年的产量分别是多少万台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28" name="组合 25635"/>
            <p:cNvGrpSpPr/>
            <p:nvPr/>
          </p:nvGrpSpPr>
          <p:grpSpPr>
            <a:xfrm>
              <a:off x="3321000" y="1911240"/>
              <a:ext cx="511200" cy="815040"/>
              <a:chOff x="3321000" y="1911240"/>
              <a:chExt cx="511200" cy="815040"/>
            </a:xfrm>
          </p:grpSpPr>
          <p:sp>
            <p:nvSpPr>
              <p:cNvPr id="1729" name="文本框 25636"/>
              <p:cNvSpPr/>
              <p:nvPr/>
            </p:nvSpPr>
            <p:spPr>
              <a:xfrm>
                <a:off x="3327480" y="22665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0" name="文本框 25637"/>
              <p:cNvSpPr/>
              <p:nvPr/>
            </p:nvSpPr>
            <p:spPr>
              <a:xfrm>
                <a:off x="3321000" y="1911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1" name="直接连接符 25638"/>
              <p:cNvSpPr/>
              <p:nvPr/>
            </p:nvSpPr>
            <p:spPr>
              <a:xfrm>
                <a:off x="3336840" y="23302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32" name="组合 25639"/>
          <p:cNvGrpSpPr/>
          <p:nvPr/>
        </p:nvGrpSpPr>
        <p:grpSpPr>
          <a:xfrm>
            <a:off x="5126040" y="3656160"/>
            <a:ext cx="3714840" cy="2996280"/>
            <a:chOff x="5126040" y="3656160"/>
            <a:chExt cx="3714840" cy="2996280"/>
          </a:xfrm>
        </p:grpSpPr>
        <p:sp>
          <p:nvSpPr>
            <p:cNvPr id="1733" name="TextBox 22"/>
            <p:cNvSpPr/>
            <p:nvPr/>
          </p:nvSpPr>
          <p:spPr>
            <a:xfrm>
              <a:off x="5126040" y="3656160"/>
              <a:ext cx="37148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下半年生产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万台，则上  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半年生产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万台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0 ×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万台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34" name="组合 25641"/>
            <p:cNvGrpSpPr/>
            <p:nvPr/>
          </p:nvGrpSpPr>
          <p:grpSpPr>
            <a:xfrm>
              <a:off x="6786720" y="3868560"/>
              <a:ext cx="510480" cy="815040"/>
              <a:chOff x="6786720" y="3868560"/>
              <a:chExt cx="510480" cy="815040"/>
            </a:xfrm>
          </p:grpSpPr>
          <p:sp>
            <p:nvSpPr>
              <p:cNvPr id="1735" name="文本框 25642"/>
              <p:cNvSpPr/>
              <p:nvPr/>
            </p:nvSpPr>
            <p:spPr>
              <a:xfrm>
                <a:off x="6792840" y="42238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6" name="文本框 25643"/>
              <p:cNvSpPr/>
              <p:nvPr/>
            </p:nvSpPr>
            <p:spPr>
              <a:xfrm>
                <a:off x="6786720" y="38685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7" name="直接连接符 25644"/>
              <p:cNvSpPr/>
              <p:nvPr/>
            </p:nvSpPr>
            <p:spPr>
              <a:xfrm>
                <a:off x="6802200" y="42876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38" name="组合 25645"/>
            <p:cNvGrpSpPr/>
            <p:nvPr/>
          </p:nvGrpSpPr>
          <p:grpSpPr>
            <a:xfrm>
              <a:off x="6354720" y="4290840"/>
              <a:ext cx="511200" cy="815040"/>
              <a:chOff x="6354720" y="4290840"/>
              <a:chExt cx="511200" cy="815040"/>
            </a:xfrm>
          </p:grpSpPr>
          <p:sp>
            <p:nvSpPr>
              <p:cNvPr id="1739" name="文本框 25646"/>
              <p:cNvSpPr/>
              <p:nvPr/>
            </p:nvSpPr>
            <p:spPr>
              <a:xfrm>
                <a:off x="6361200" y="4646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0" name="文本框 25647"/>
              <p:cNvSpPr/>
              <p:nvPr/>
            </p:nvSpPr>
            <p:spPr>
              <a:xfrm>
                <a:off x="6354720" y="4290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1" name="直接连接符 25648"/>
              <p:cNvSpPr/>
              <p:nvPr/>
            </p:nvSpPr>
            <p:spPr>
              <a:xfrm>
                <a:off x="6370560" y="4709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42" name="组合 25649"/>
            <p:cNvGrpSpPr/>
            <p:nvPr/>
          </p:nvGrpSpPr>
          <p:grpSpPr>
            <a:xfrm>
              <a:off x="6350040" y="4889520"/>
              <a:ext cx="511200" cy="815040"/>
              <a:chOff x="6350040" y="4889520"/>
              <a:chExt cx="511200" cy="815040"/>
            </a:xfrm>
          </p:grpSpPr>
          <p:sp>
            <p:nvSpPr>
              <p:cNvPr id="1743" name="文本框 25650"/>
              <p:cNvSpPr/>
              <p:nvPr/>
            </p:nvSpPr>
            <p:spPr>
              <a:xfrm>
                <a:off x="6356520" y="52448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4" name="文本框 25651"/>
              <p:cNvSpPr/>
              <p:nvPr/>
            </p:nvSpPr>
            <p:spPr>
              <a:xfrm>
                <a:off x="6350040" y="4889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5" name="直接连接符 25652"/>
              <p:cNvSpPr/>
              <p:nvPr/>
            </p:nvSpPr>
            <p:spPr>
              <a:xfrm>
                <a:off x="6365880" y="53085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46" name="组合 25653"/>
            <p:cNvGrpSpPr/>
            <p:nvPr/>
          </p:nvGrpSpPr>
          <p:grpSpPr>
            <a:xfrm>
              <a:off x="6742080" y="5837400"/>
              <a:ext cx="511200" cy="815040"/>
              <a:chOff x="6742080" y="5837400"/>
              <a:chExt cx="511200" cy="815040"/>
            </a:xfrm>
          </p:grpSpPr>
          <p:sp>
            <p:nvSpPr>
              <p:cNvPr id="1747" name="文本框 25654"/>
              <p:cNvSpPr/>
              <p:nvPr/>
            </p:nvSpPr>
            <p:spPr>
              <a:xfrm>
                <a:off x="6748560" y="6192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8" name="文本框 25655"/>
              <p:cNvSpPr/>
              <p:nvPr/>
            </p:nvSpPr>
            <p:spPr>
              <a:xfrm>
                <a:off x="6742080" y="5837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9" name="直接连接符 25656"/>
              <p:cNvSpPr/>
              <p:nvPr/>
            </p:nvSpPr>
            <p:spPr>
              <a:xfrm>
                <a:off x="6757920" y="62564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1750" name="图片 25657" descr="u3jx05_8、9副本"/>
          <p:cNvPicPr/>
          <p:nvPr/>
        </p:nvPicPr>
        <p:blipFill>
          <a:blip r:embed="rId3"/>
          <a:stretch/>
        </p:blipFill>
        <p:spPr>
          <a:xfrm>
            <a:off x="6516720" y="1484280"/>
            <a:ext cx="191772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2" name="Text Box 40"/>
          <p:cNvSpPr/>
          <p:nvPr/>
        </p:nvSpPr>
        <p:spPr>
          <a:xfrm>
            <a:off x="961920" y="602280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如果把上半年的产量看作是单位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那么下半年的产量是上半年的几分之几？应该怎样设未知数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3" name="TextBox 39"/>
          <p:cNvSpPr/>
          <p:nvPr/>
        </p:nvSpPr>
        <p:spPr>
          <a:xfrm>
            <a:off x="176040" y="5999040"/>
            <a:ext cx="14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4" name="Text Box 45"/>
          <p:cNvSpPr/>
          <p:nvPr/>
        </p:nvSpPr>
        <p:spPr>
          <a:xfrm>
            <a:off x="4680000" y="285264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上半年产量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半年产量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全年产量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5" name="Text Box 46"/>
          <p:cNvSpPr/>
          <p:nvPr/>
        </p:nvSpPr>
        <p:spPr>
          <a:xfrm>
            <a:off x="250920" y="3065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56" name="组合 26630"/>
          <p:cNvGrpSpPr/>
          <p:nvPr/>
        </p:nvGrpSpPr>
        <p:grpSpPr>
          <a:xfrm>
            <a:off x="142920" y="3373560"/>
            <a:ext cx="5857920" cy="2482200"/>
            <a:chOff x="142920" y="3373560"/>
            <a:chExt cx="5857920" cy="2482200"/>
          </a:xfrm>
        </p:grpSpPr>
        <p:grpSp>
          <p:nvGrpSpPr>
            <p:cNvPr id="1757" name="组合 26631"/>
            <p:cNvGrpSpPr/>
            <p:nvPr/>
          </p:nvGrpSpPr>
          <p:grpSpPr>
            <a:xfrm>
              <a:off x="142920" y="3373560"/>
              <a:ext cx="5857920" cy="2096640"/>
              <a:chOff x="142920" y="3373560"/>
              <a:chExt cx="5857920" cy="2096640"/>
            </a:xfrm>
          </p:grpSpPr>
          <p:sp>
            <p:nvSpPr>
              <p:cNvPr id="1758" name="Text Box 8"/>
              <p:cNvSpPr/>
              <p:nvPr/>
            </p:nvSpPr>
            <p:spPr>
              <a:xfrm>
                <a:off x="4776840" y="4286880"/>
                <a:ext cx="12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8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万台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9" name="TextBox 66"/>
              <p:cNvSpPr/>
              <p:nvPr/>
            </p:nvSpPr>
            <p:spPr>
              <a:xfrm>
                <a:off x="2435400" y="3373560"/>
                <a:ext cx="1056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“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0" name="TextBox 102"/>
              <p:cNvSpPr/>
              <p:nvPr/>
            </p:nvSpPr>
            <p:spPr>
              <a:xfrm>
                <a:off x="142920" y="4960440"/>
                <a:ext cx="219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下半年产量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1" name="TextBox 103"/>
              <p:cNvSpPr/>
              <p:nvPr/>
            </p:nvSpPr>
            <p:spPr>
              <a:xfrm>
                <a:off x="142920" y="37962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上半年产量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2" name="TextBox 69"/>
              <p:cNvSpPr/>
              <p:nvPr/>
            </p:nvSpPr>
            <p:spPr>
              <a:xfrm>
                <a:off x="2357280" y="4286880"/>
                <a:ext cx="110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？万台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pic>
            <p:nvPicPr>
              <p:cNvPr id="1763" name="左大括号 47" descr=""/>
              <p:cNvPicPr/>
              <p:nvPr/>
            </p:nvPicPr>
            <p:blipFill>
              <a:blip r:embed="rId1"/>
              <a:stretch/>
            </p:blipFill>
            <p:spPr>
              <a:xfrm>
                <a:off x="1803240" y="4192920"/>
                <a:ext cx="2140200" cy="26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4" name="组合 87"/>
              <p:cNvGrpSpPr/>
              <p:nvPr/>
            </p:nvGrpSpPr>
            <p:grpSpPr>
              <a:xfrm>
                <a:off x="1828800" y="5162400"/>
                <a:ext cx="2739600" cy="95400"/>
                <a:chOff x="1828800" y="5162400"/>
                <a:chExt cx="2739600" cy="95400"/>
              </a:xfrm>
            </p:grpSpPr>
            <p:sp>
              <p:nvSpPr>
                <p:cNvPr id="1765" name="直接连接符 71"/>
                <p:cNvSpPr/>
                <p:nvPr/>
              </p:nvSpPr>
              <p:spPr>
                <a:xfrm>
                  <a:off x="1828800" y="5257080"/>
                  <a:ext cx="2733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66" name="直接连接符 72"/>
                <p:cNvSpPr/>
                <p:nvPr/>
              </p:nvSpPr>
              <p:spPr>
                <a:xfrm flipH="1">
                  <a:off x="1836360" y="5162760"/>
                  <a:ext cx="108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67" name="直接连接符 73"/>
                <p:cNvSpPr/>
                <p:nvPr/>
              </p:nvSpPr>
              <p:spPr>
                <a:xfrm flipH="1">
                  <a:off x="4020840" y="5162400"/>
                  <a:ext cx="108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68" name="直接连接符 74"/>
                <p:cNvSpPr/>
                <p:nvPr/>
              </p:nvSpPr>
              <p:spPr>
                <a:xfrm flipH="1">
                  <a:off x="2382480" y="5162760"/>
                  <a:ext cx="108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69" name="直接连接符 75"/>
                <p:cNvSpPr/>
                <p:nvPr/>
              </p:nvSpPr>
              <p:spPr>
                <a:xfrm flipH="1">
                  <a:off x="2928960" y="5162760"/>
                  <a:ext cx="108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0" name="直接连接符 76"/>
                <p:cNvSpPr/>
                <p:nvPr/>
              </p:nvSpPr>
              <p:spPr>
                <a:xfrm flipH="1">
                  <a:off x="4567320" y="5162400"/>
                  <a:ext cx="108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1" name="直接连接符 77"/>
                <p:cNvSpPr/>
                <p:nvPr/>
              </p:nvSpPr>
              <p:spPr>
                <a:xfrm flipH="1">
                  <a:off x="3475440" y="5162760"/>
                  <a:ext cx="108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72" name="直接连接符 88"/>
              <p:cNvSpPr/>
              <p:nvPr/>
            </p:nvSpPr>
            <p:spPr>
              <a:xfrm>
                <a:off x="1774800" y="4077000"/>
                <a:ext cx="2206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3" name="左大括号 110"/>
              <p:cNvSpPr/>
              <p:nvPr/>
            </p:nvSpPr>
            <p:spPr>
              <a:xfrm rot="16200000">
                <a:off x="3156840" y="4055040"/>
                <a:ext cx="95040" cy="2735280"/>
              </a:xfrm>
              <a:custGeom>
                <a:avLst/>
                <a:gdLst>
                  <a:gd name="textAreaLeft" fmla="*/ 60840 w 95040"/>
                  <a:gd name="textAreaRight" fmla="*/ 95400 w 95040"/>
                  <a:gd name="textAreaTop" fmla="*/ 11160 h 2735280"/>
                  <a:gd name="textAreaBottom" fmla="*/ 2724120 h 273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45"/>
                      <a:pt x="10800" y="290"/>
                    </a:cubicBezTo>
                    <a:lnTo>
                      <a:pt x="10800" y="10510"/>
                    </a:lnTo>
                    <a:cubicBezTo>
                      <a:pt x="10800" y="10655"/>
                      <a:pt x="5400" y="10800"/>
                      <a:pt x="0" y="10800"/>
                    </a:cubicBezTo>
                    <a:cubicBezTo>
                      <a:pt x="5400" y="10800"/>
                      <a:pt x="10800" y="10945"/>
                      <a:pt x="10800" y="11090"/>
                    </a:cubicBezTo>
                    <a:lnTo>
                      <a:pt x="10800" y="21310"/>
                    </a:lnTo>
                    <a:cubicBezTo>
                      <a:pt x="10800" y="21455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4" name="AutoShape 32"/>
              <p:cNvSpPr/>
              <p:nvPr/>
            </p:nvSpPr>
            <p:spPr>
              <a:xfrm>
                <a:off x="4633920" y="3920040"/>
                <a:ext cx="152280" cy="13676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32040 h 1367640"/>
                  <a:gd name="textAreaBottom" fmla="*/ 1335600 h 136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809"/>
                      <a:pt x="10800" y="1618"/>
                    </a:cubicBezTo>
                    <a:lnTo>
                      <a:pt x="10800" y="9182"/>
                    </a:lnTo>
                    <a:cubicBezTo>
                      <a:pt x="10800" y="9991"/>
                      <a:pt x="16200" y="10800"/>
                      <a:pt x="21600" y="10800"/>
                    </a:cubicBezTo>
                    <a:cubicBezTo>
                      <a:pt x="16200" y="10800"/>
                      <a:pt x="10800" y="11609"/>
                      <a:pt x="10800" y="12418"/>
                    </a:cubicBezTo>
                    <a:lnTo>
                      <a:pt x="10800" y="19982"/>
                    </a:lnTo>
                    <a:cubicBezTo>
                      <a:pt x="10800" y="20791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5" name="AutoShape 33"/>
              <p:cNvSpPr/>
              <p:nvPr/>
            </p:nvSpPr>
            <p:spPr>
              <a:xfrm rot="16200000">
                <a:off x="2818440" y="2764080"/>
                <a:ext cx="104760" cy="2144880"/>
              </a:xfrm>
              <a:custGeom>
                <a:avLst/>
                <a:gdLst>
                  <a:gd name="textAreaLeft" fmla="*/ 0 w 104760"/>
                  <a:gd name="textAreaRight" fmla="*/ 37800 w 104760"/>
                  <a:gd name="textAreaTop" fmla="*/ 55800 h 2144880"/>
                  <a:gd name="textAreaBottom" fmla="*/ 2089080 h 214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6" name="AutoShape 33"/>
              <p:cNvSpPr/>
              <p:nvPr/>
            </p:nvSpPr>
            <p:spPr>
              <a:xfrm rot="16200000">
                <a:off x="3124440" y="3688560"/>
                <a:ext cx="176040" cy="2716200"/>
              </a:xfrm>
              <a:custGeom>
                <a:avLst/>
                <a:gdLst>
                  <a:gd name="textAreaLeft" fmla="*/ 0 w 176040"/>
                  <a:gd name="textAreaRight" fmla="*/ 63360 w 176040"/>
                  <a:gd name="textAreaTop" fmla="*/ 93960 h 2716200"/>
                  <a:gd name="textAreaBottom" fmla="*/ 2622240 h 271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195"/>
                      <a:pt x="10800" y="2389"/>
                    </a:cubicBezTo>
                    <a:lnTo>
                      <a:pt x="10800" y="8411"/>
                    </a:lnTo>
                    <a:cubicBezTo>
                      <a:pt x="10800" y="9606"/>
                      <a:pt x="16200" y="10800"/>
                      <a:pt x="21600" y="10800"/>
                    </a:cubicBezTo>
                    <a:cubicBezTo>
                      <a:pt x="16200" y="10800"/>
                      <a:pt x="10800" y="11995"/>
                      <a:pt x="10800" y="13189"/>
                    </a:cubicBezTo>
                    <a:lnTo>
                      <a:pt x="10800" y="19211"/>
                    </a:lnTo>
                    <a:cubicBezTo>
                      <a:pt x="10800" y="20406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pic>
            <p:nvPicPr>
              <p:cNvPr id="1777" name="Object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197160" y="4501440"/>
                <a:ext cx="24120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78" name="TextBox 51"/>
            <p:cNvSpPr/>
            <p:nvPr/>
          </p:nvSpPr>
          <p:spPr>
            <a:xfrm>
              <a:off x="2857680" y="539604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？万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79" name="直接连接符 90"/>
            <p:cNvSpPr/>
            <p:nvPr/>
          </p:nvSpPr>
          <p:spPr>
            <a:xfrm>
              <a:off x="3433680" y="3981600"/>
              <a:ext cx="0" cy="950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0" name="直接连接符 91"/>
            <p:cNvSpPr/>
            <p:nvPr/>
          </p:nvSpPr>
          <p:spPr>
            <a:xfrm flipH="1">
              <a:off x="1775880" y="3978360"/>
              <a:ext cx="1800" cy="950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1" name="直接连接符 92"/>
            <p:cNvSpPr/>
            <p:nvPr/>
          </p:nvSpPr>
          <p:spPr>
            <a:xfrm flipH="1">
              <a:off x="2279160" y="3987720"/>
              <a:ext cx="1800" cy="954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2" name="直接连接符 93"/>
            <p:cNvSpPr/>
            <p:nvPr/>
          </p:nvSpPr>
          <p:spPr>
            <a:xfrm>
              <a:off x="3963960" y="3990960"/>
              <a:ext cx="0" cy="954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3" name="直接连接符 94"/>
            <p:cNvSpPr/>
            <p:nvPr/>
          </p:nvSpPr>
          <p:spPr>
            <a:xfrm flipH="1">
              <a:off x="2855520" y="3978360"/>
              <a:ext cx="1800" cy="950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84" name="组合 26658"/>
          <p:cNvGrpSpPr/>
          <p:nvPr/>
        </p:nvGrpSpPr>
        <p:grpSpPr>
          <a:xfrm>
            <a:off x="611280" y="1512720"/>
            <a:ext cx="5761080" cy="1508760"/>
            <a:chOff x="611280" y="1512720"/>
            <a:chExt cx="5761080" cy="1508760"/>
          </a:xfrm>
        </p:grpSpPr>
        <p:sp>
          <p:nvSpPr>
            <p:cNvPr id="1785" name="Text Box 51"/>
            <p:cNvSpPr/>
            <p:nvPr/>
          </p:nvSpPr>
          <p:spPr>
            <a:xfrm>
              <a:off x="611280" y="1512720"/>
              <a:ext cx="5761080" cy="15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某电视厂去年全年生产电视机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0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万台，其中上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半年产量是下半年的     。这个电视机厂去年上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半年和下半年的产量分别是多少万台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86" name="组合 26660"/>
            <p:cNvGrpSpPr/>
            <p:nvPr/>
          </p:nvGrpSpPr>
          <p:grpSpPr>
            <a:xfrm>
              <a:off x="3321000" y="1866600"/>
              <a:ext cx="511200" cy="815040"/>
              <a:chOff x="3321000" y="1866600"/>
              <a:chExt cx="511200" cy="815040"/>
            </a:xfrm>
          </p:grpSpPr>
          <p:sp>
            <p:nvSpPr>
              <p:cNvPr id="1787" name="文本框 26661"/>
              <p:cNvSpPr/>
              <p:nvPr/>
            </p:nvSpPr>
            <p:spPr>
              <a:xfrm>
                <a:off x="3327480" y="2221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8" name="文本框 26662"/>
              <p:cNvSpPr/>
              <p:nvPr/>
            </p:nvSpPr>
            <p:spPr>
              <a:xfrm>
                <a:off x="3321000" y="18666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9" name="直接连接符 26663"/>
              <p:cNvSpPr/>
              <p:nvPr/>
            </p:nvSpPr>
            <p:spPr>
              <a:xfrm>
                <a:off x="3336840" y="22856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90" name="组合 26664"/>
          <p:cNvGrpSpPr/>
          <p:nvPr/>
        </p:nvGrpSpPr>
        <p:grpSpPr>
          <a:xfrm>
            <a:off x="4932360" y="3243240"/>
            <a:ext cx="4464000" cy="2989440"/>
            <a:chOff x="4932360" y="3243240"/>
            <a:chExt cx="4464000" cy="2989440"/>
          </a:xfrm>
        </p:grpSpPr>
        <p:sp>
          <p:nvSpPr>
            <p:cNvPr id="1791" name="TextBox 22"/>
            <p:cNvSpPr/>
            <p:nvPr/>
          </p:nvSpPr>
          <p:spPr>
            <a:xfrm>
              <a:off x="4932360" y="3243240"/>
              <a:ext cx="446400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上半年生产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万台，则下半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年生产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万台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万台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92" name="组合 26666"/>
            <p:cNvGrpSpPr/>
            <p:nvPr/>
          </p:nvGrpSpPr>
          <p:grpSpPr>
            <a:xfrm>
              <a:off x="6350040" y="3535200"/>
              <a:ext cx="511200" cy="815040"/>
              <a:chOff x="6350040" y="3535200"/>
              <a:chExt cx="511200" cy="815040"/>
            </a:xfrm>
          </p:grpSpPr>
          <p:sp>
            <p:nvSpPr>
              <p:cNvPr id="1793" name="文本框 26667"/>
              <p:cNvSpPr/>
              <p:nvPr/>
            </p:nvSpPr>
            <p:spPr>
              <a:xfrm>
                <a:off x="6356520" y="3890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4" name="文本框 26668"/>
              <p:cNvSpPr/>
              <p:nvPr/>
            </p:nvSpPr>
            <p:spPr>
              <a:xfrm>
                <a:off x="6350040" y="3535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5" name="直接连接符 26669"/>
              <p:cNvSpPr/>
              <p:nvPr/>
            </p:nvSpPr>
            <p:spPr>
              <a:xfrm>
                <a:off x="6365880" y="39542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96" name="组合 26670"/>
            <p:cNvGrpSpPr/>
            <p:nvPr/>
          </p:nvGrpSpPr>
          <p:grpSpPr>
            <a:xfrm>
              <a:off x="6432480" y="4084560"/>
              <a:ext cx="511200" cy="815040"/>
              <a:chOff x="6432480" y="4084560"/>
              <a:chExt cx="511200" cy="815040"/>
            </a:xfrm>
          </p:grpSpPr>
          <p:sp>
            <p:nvSpPr>
              <p:cNvPr id="1797" name="文本框 26671"/>
              <p:cNvSpPr/>
              <p:nvPr/>
            </p:nvSpPr>
            <p:spPr>
              <a:xfrm>
                <a:off x="6438960" y="4439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8" name="文本框 26672"/>
              <p:cNvSpPr/>
              <p:nvPr/>
            </p:nvSpPr>
            <p:spPr>
              <a:xfrm>
                <a:off x="6432480" y="4084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9" name="直接连接符 26673"/>
              <p:cNvSpPr/>
              <p:nvPr/>
            </p:nvSpPr>
            <p:spPr>
              <a:xfrm>
                <a:off x="6448320" y="4503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00" name="组合 26674"/>
            <p:cNvGrpSpPr/>
            <p:nvPr/>
          </p:nvGrpSpPr>
          <p:grpSpPr>
            <a:xfrm>
              <a:off x="6438960" y="4687920"/>
              <a:ext cx="511200" cy="815040"/>
              <a:chOff x="6438960" y="4687920"/>
              <a:chExt cx="511200" cy="815040"/>
            </a:xfrm>
          </p:grpSpPr>
          <p:sp>
            <p:nvSpPr>
              <p:cNvPr id="1801" name="文本框 26675"/>
              <p:cNvSpPr/>
              <p:nvPr/>
            </p:nvSpPr>
            <p:spPr>
              <a:xfrm>
                <a:off x="6445440" y="5043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02" name="文本框 26676"/>
              <p:cNvSpPr/>
              <p:nvPr/>
            </p:nvSpPr>
            <p:spPr>
              <a:xfrm>
                <a:off x="6438960" y="4687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03" name="直接连接符 26677"/>
              <p:cNvSpPr/>
              <p:nvPr/>
            </p:nvSpPr>
            <p:spPr>
              <a:xfrm>
                <a:off x="6454800" y="51069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1804" name="图片 26678" descr="u3jx05_8、9副本"/>
          <p:cNvPicPr/>
          <p:nvPr/>
        </p:nvPicPr>
        <p:blipFill>
          <a:blip r:embed="rId3"/>
          <a:stretch/>
        </p:blipFill>
        <p:spPr>
          <a:xfrm>
            <a:off x="6516720" y="1484280"/>
            <a:ext cx="191772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6:07Z</dcterms:modified>
  <cp:revision>3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